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296-E4E4-4801-B633-DAD9738E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F30-5025-4349-92B7-4590FFF0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85F-9C6A-4A00-8A92-434243D6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D5F-FE4A-4113-A0F4-6D2792C7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7C3F-425E-48A3-A46D-8372BCA5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DF13-603D-4B90-B0A0-C9D0CF04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FE0C-95F8-47D0-AE62-2BE46BFC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42E6-4590-4944-A501-7080089F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EB61-0AC0-43B5-82E6-4BE8109D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DA33-B94A-4E90-B188-E6199A98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CD42-C696-497F-9801-EFFC453D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4E7-BC80-46CB-B04F-CE08BE5F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29B1-F7A6-406C-A1D6-DE905E7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0C62-5265-4CDC-AABA-0DEAF782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2A28-7E30-4AB5-8A80-6A747A34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97E7-8CA1-422A-954A-08272079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00D2-3592-493E-ABA7-5DAC4657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356-21C8-44F0-9914-315983EB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97B-D2E1-44C8-A0D7-07E69C6D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563-C186-4785-B617-342ED0EA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B3E-2B10-4AE6-A333-F7F6240B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CCE-9024-48B5-86C9-5668297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C92-F904-4B46-B8F7-7B8E637E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56F-9F49-4C0E-B706-25C464D3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4582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895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F92-D2E4-42CC-A914-F717DBC2C50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533520" y="380880"/>
          <a:ext cx="9651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80880"/>
                    <a:ext cx="9651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B43E-F18B-43CF-BCE5-5585C4376BE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cc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8" name="fig22-1" descr=""/>
          <p:cNvPicPr/>
          <p:nvPr/>
        </p:nvPicPr>
        <p:blipFill>
          <a:blip r:embed="rId1"/>
          <a:stretch/>
        </p:blipFill>
        <p:spPr>
          <a:xfrm>
            <a:off x="0" y="1665360"/>
            <a:ext cx="914400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A95-1BD9-45E9-ACD7-4C8098BBD0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427640"/>
          </a:xfrm>
          <a:prstGeom prst="rect">
            <a:avLst/>
          </a:prstGeom>
          <a:ln w="0">
            <a:noFill/>
          </a:ln>
        </p:spPr>
      </p:pic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bilazak u širinu (BF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2E8-6E2B-41BC-A7BD-B73DF8D87E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fig22-3" descr=""/>
          <p:cNvPicPr/>
          <p:nvPr/>
        </p:nvPicPr>
        <p:blipFill>
          <a:blip r:embed="rId1"/>
          <a:srcRect l="0" t="0" r="0" b="15647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4E9-BC22-4460-A094-45D4179E7F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fig22-9" descr=""/>
          <p:cNvPicPr/>
          <p:nvPr/>
        </p:nvPicPr>
        <p:blipFill>
          <a:blip r:embed="rId1"/>
          <a:srcRect l="0" t="0" r="31817" b="75943"/>
          <a:stretch/>
        </p:blipFill>
        <p:spPr>
          <a:xfrm>
            <a:off x="1066680" y="2057400"/>
            <a:ext cx="6400800" cy="340848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F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4E6-FED1-477C-ADA9-6F309982F5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BF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909" name="BF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6628320" y="11430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4876920" y="190512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5179320" y="243828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Set up s and initialize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152280" y="3886200"/>
            <a:ext cx="8915400" cy="2301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"/>
          <p:cNvSpPr/>
          <p:nvPr/>
        </p:nvSpPr>
        <p:spPr>
          <a:xfrm>
            <a:off x="833400" y="5257800"/>
            <a:ext cx="43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Explore all the vertices adjacent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u and update d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 and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0FD-6982-4750-9CE8-7CB0F62653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pth first travers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F294-3EE7-49C7-B4AA-D620D1D0E8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019920" cy="445284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bilazak u dubinu (DF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DEA-8935-4E58-A819-01936D384A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fig22-4" descr=""/>
          <p:cNvPicPr/>
          <p:nvPr/>
        </p:nvPicPr>
        <p:blipFill>
          <a:blip r:embed="rId1"/>
          <a:srcRect l="0" t="0" r="0" b="180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C73-A913-4E30-82AD-55E1771626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DF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22" name="DFS_visit" descr=""/>
          <p:cNvPicPr/>
          <p:nvPr/>
        </p:nvPicPr>
        <p:blipFill>
          <a:blip r:embed="rId2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CE3-B7AD-45E5-99C8-3656AA3A64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polo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ško sortiranj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4E56-A5B1-49C5-A9FC-0D7C09EF7D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fig22-7" descr=""/>
          <p:cNvPicPr/>
          <p:nvPr/>
        </p:nvPicPr>
        <p:blipFill>
          <a:blip r:embed="rId1"/>
          <a:srcRect l="0" t="0" r="0" b="28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9B4-62F6-49C3-BE4C-6230138D72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fig22-2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21240" y="39988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  <a:ea typeface="標楷體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標楷體"/>
              </a:rPr>
              <a:t>bit per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EE6-398F-41BA-8516-7608DEDD0A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lgoritam za najkraće puteve iz datog čvor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Dijk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E2DA-9400-48C3-82FA-6129854E1D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37" name=""/>
          <p:cNvCxnSpPr>
            <a:stCxn id="933" idx="6"/>
            <a:endCxn id="929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2" idx="0"/>
            <a:endCxn id="929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2" idx="7"/>
            <a:endCxn id="935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5" idx="0"/>
            <a:endCxn id="930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29" idx="6"/>
            <a:endCxn id="930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36" idx="6"/>
            <a:endCxn id="934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33" idx="4"/>
            <a:endCxn id="934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stCxn id="935" idx="4"/>
            <a:endCxn id="931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45" name=""/>
          <p:cNvCxnSpPr>
            <a:endCxn id="932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>
            <a:stCxn id="934" idx="6"/>
            <a:endCxn id="932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7" name=""/>
          <p:cNvCxnSpPr>
            <a:stCxn id="934" idx="7"/>
            <a:endCxn id="929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59" name=""/>
          <p:cNvCxnSpPr>
            <a:stCxn id="930" idx="4"/>
            <a:endCxn id="931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79981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19F-17E6-4DF4-B154-FB497CC1F1E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73" name=""/>
          <p:cNvCxnSpPr>
            <a:stCxn id="969" idx="6"/>
            <a:endCxn id="965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68" idx="0"/>
            <a:endCxn id="965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stCxn id="968" idx="7"/>
            <a:endCxn id="971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>
            <a:stCxn id="971" idx="0"/>
            <a:endCxn id="966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>
            <a:stCxn id="965" idx="6"/>
            <a:endCxn id="966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8" name=""/>
          <p:cNvCxnSpPr>
            <a:stCxn id="972" idx="6"/>
            <a:endCxn id="970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69" idx="4"/>
            <a:endCxn id="970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0" name=""/>
          <p:cNvCxnSpPr>
            <a:stCxn id="971" idx="4"/>
            <a:endCxn id="967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981" name=""/>
          <p:cNvCxnSpPr>
            <a:endCxn id="968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2" name=""/>
          <p:cNvCxnSpPr>
            <a:stCxn id="970" idx="6"/>
            <a:endCxn id="968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70" idx="7"/>
            <a:endCxn id="965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95" name=""/>
          <p:cNvCxnSpPr>
            <a:stCxn id="966" idx="4"/>
            <a:endCxn id="967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"/>
          <p:cNvSpPr/>
          <p:nvPr/>
        </p:nvSpPr>
        <p:spPr>
          <a:xfrm>
            <a:off x="79981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90C-AC2F-4155-AEC8-4CCEBC60C5F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09" name=""/>
          <p:cNvCxnSpPr>
            <a:stCxn id="1005" idx="6"/>
            <a:endCxn id="1001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0" name=""/>
          <p:cNvCxnSpPr>
            <a:stCxn id="1004" idx="0"/>
            <a:endCxn id="1001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1004" idx="7"/>
            <a:endCxn id="1007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2" name=""/>
          <p:cNvCxnSpPr>
            <a:stCxn id="1007" idx="0"/>
            <a:endCxn id="1002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013" name=""/>
          <p:cNvCxnSpPr>
            <a:stCxn id="1001" idx="6"/>
            <a:endCxn id="1002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1008" idx="6"/>
            <a:endCxn id="1006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05" idx="4"/>
            <a:endCxn id="1006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07" idx="4"/>
            <a:endCxn id="1003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017" name=""/>
          <p:cNvCxnSpPr>
            <a:endCxn id="1004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stCxn id="1006" idx="6"/>
            <a:endCxn id="1004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9" name=""/>
          <p:cNvCxnSpPr>
            <a:stCxn id="1006" idx="7"/>
            <a:endCxn id="1001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31" name=""/>
          <p:cNvCxnSpPr>
            <a:stCxn id="1002" idx="4"/>
            <a:endCxn id="1003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32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7998120" y="25146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24</a:t>
            </a:r>
            <a:r>
              <a:rPr b="1" lang="sr-Latn-C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"/>
          <p:cNvSpPr/>
          <p:nvPr/>
        </p:nvSpPr>
        <p:spPr>
          <a:xfrm>
            <a:off x="5930640" y="6289560"/>
            <a:ext cx="1538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 tako dal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363-41AE-4561-890B-F597B2F603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46" name=""/>
          <p:cNvCxnSpPr>
            <a:stCxn id="1042" idx="6"/>
            <a:endCxn id="1038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1" idx="0"/>
            <a:endCxn id="1038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1" idx="7"/>
            <a:endCxn id="1044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stCxn id="1044" idx="0"/>
            <a:endCxn id="1039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0" name=""/>
          <p:cNvCxnSpPr>
            <a:stCxn id="1038" idx="6"/>
            <a:endCxn id="1039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1" name=""/>
          <p:cNvCxnSpPr>
            <a:stCxn id="1045" idx="6"/>
            <a:endCxn id="1043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2" name=""/>
          <p:cNvCxnSpPr>
            <a:stCxn id="1042" idx="4"/>
            <a:endCxn id="1043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3" name=""/>
          <p:cNvCxnSpPr>
            <a:stCxn id="1044" idx="4"/>
            <a:endCxn id="1040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4" name=""/>
          <p:cNvCxnSpPr>
            <a:endCxn id="1041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5" name=""/>
          <p:cNvCxnSpPr>
            <a:stCxn id="1043" idx="6"/>
            <a:endCxn id="1041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6" name=""/>
          <p:cNvCxnSpPr>
            <a:stCxn id="1043" idx="7"/>
            <a:endCxn id="1038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7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68" name=""/>
          <p:cNvCxnSpPr>
            <a:stCxn id="1039" idx="4"/>
            <a:endCxn id="1040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9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"/>
          <p:cNvSpPr/>
          <p:nvPr/>
        </p:nvSpPr>
        <p:spPr>
          <a:xfrm>
            <a:off x="4794480" y="5565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"/>
          <p:cNvSpPr/>
          <p:nvPr/>
        </p:nvSpPr>
        <p:spPr>
          <a:xfrm>
            <a:off x="8434440" y="24382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"/>
          <p:cNvSpPr/>
          <p:nvPr/>
        </p:nvSpPr>
        <p:spPr>
          <a:xfrm>
            <a:off x="8241120" y="599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"/>
          <p:cNvSpPr/>
          <p:nvPr/>
        </p:nvSpPr>
        <p:spPr>
          <a:xfrm>
            <a:off x="6834240" y="39625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9C5-6938-4C58-9240-F09F7021F1D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87" name=""/>
          <p:cNvCxnSpPr>
            <a:stCxn id="1083" idx="6"/>
            <a:endCxn id="1079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82" idx="0"/>
            <a:endCxn id="1079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2" idx="7"/>
            <a:endCxn id="1085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5" idx="0"/>
            <a:endCxn id="1080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9" idx="6"/>
            <a:endCxn id="1080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86" idx="6"/>
            <a:endCxn id="1084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3" name=""/>
          <p:cNvCxnSpPr>
            <a:stCxn id="1083" idx="4"/>
            <a:endCxn id="1084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4" name=""/>
          <p:cNvCxnSpPr>
            <a:stCxn id="1085" idx="4"/>
            <a:endCxn id="1081" idx="0"/>
          </p:cNvCxnSpPr>
          <p:nvPr/>
        </p:nvCxnSpPr>
        <p:spPr>
          <a:xfrm>
            <a:off x="7292520" y="4033440"/>
            <a:ext cx="823320" cy="1199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5" name=""/>
          <p:cNvCxnSpPr>
            <a:endCxn id="1082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6" name=""/>
          <p:cNvCxnSpPr>
            <a:stCxn id="1084" idx="6"/>
            <a:endCxn id="1082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84" idx="7"/>
            <a:endCxn id="1079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9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09" name=""/>
          <p:cNvCxnSpPr>
            <a:stCxn id="1080" idx="4"/>
            <a:endCxn id="1081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"/>
          <p:cNvSpPr/>
          <p:nvPr/>
        </p:nvSpPr>
        <p:spPr>
          <a:xfrm>
            <a:off x="4794480" y="5565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"/>
          <p:cNvSpPr/>
          <p:nvPr/>
        </p:nvSpPr>
        <p:spPr>
          <a:xfrm>
            <a:off x="8434440" y="24382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8241120" y="599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"/>
          <p:cNvSpPr/>
          <p:nvPr/>
        </p:nvSpPr>
        <p:spPr>
          <a:xfrm>
            <a:off x="6834240" y="39625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D36-E9E0-423A-9CEF-00691DFBD4E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28" name=""/>
          <p:cNvCxnSpPr>
            <a:stCxn id="1124" idx="6"/>
            <a:endCxn id="1120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3" idx="0"/>
            <a:endCxn id="1120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23" idx="7"/>
            <a:endCxn id="1126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26" idx="0"/>
            <a:endCxn id="1121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20" idx="6"/>
            <a:endCxn id="1121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27" idx="6"/>
            <a:endCxn id="1125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124" idx="4"/>
            <a:endCxn id="1125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126" idx="4"/>
            <a:endCxn id="1122" idx="0"/>
          </p:cNvCxnSpPr>
          <p:nvPr/>
        </p:nvCxnSpPr>
        <p:spPr>
          <a:xfrm>
            <a:off x="7292520" y="4033440"/>
            <a:ext cx="823320" cy="1199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endCxn id="1123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25" idx="6"/>
            <a:endCxn id="1123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5" idx="7"/>
            <a:endCxn id="1120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50" name=""/>
          <p:cNvCxnSpPr>
            <a:stCxn id="1121" idx="4"/>
            <a:endCxn id="1122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151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"/>
          <p:cNvSpPr/>
          <p:nvPr/>
        </p:nvSpPr>
        <p:spPr>
          <a:xfrm>
            <a:off x="6840000" y="41752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"/>
          <p:cNvSpPr/>
          <p:nvPr/>
        </p:nvSpPr>
        <p:spPr>
          <a:xfrm>
            <a:off x="842112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"/>
          <p:cNvSpPr/>
          <p:nvPr/>
        </p:nvSpPr>
        <p:spPr>
          <a:xfrm>
            <a:off x="8241120" y="6019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C1E-F3AC-4049-A2D0-D4482256B14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69" name=""/>
          <p:cNvCxnSpPr>
            <a:stCxn id="1165" idx="6"/>
            <a:endCxn id="1161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>
            <a:stCxn id="1164" idx="0"/>
            <a:endCxn id="1161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4" idx="7"/>
            <a:endCxn id="1167" idx="3"/>
          </p:cNvCxnSpPr>
          <p:nvPr/>
        </p:nvCxnSpPr>
        <p:spPr>
          <a:xfrm flipV="1">
            <a:off x="5451120" y="3912840"/>
            <a:ext cx="1446840" cy="1033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7" idx="0"/>
            <a:endCxn id="1162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1" idx="6"/>
            <a:endCxn id="1162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8" idx="6"/>
            <a:endCxn id="1166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5" idx="4"/>
            <a:endCxn id="1166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67" idx="4"/>
            <a:endCxn id="1163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177" name=""/>
          <p:cNvCxnSpPr>
            <a:endCxn id="1164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78" name=""/>
          <p:cNvCxnSpPr>
            <a:stCxn id="1166" idx="6"/>
            <a:endCxn id="1164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66" idx="7"/>
            <a:endCxn id="1161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0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91" name=""/>
          <p:cNvCxnSpPr>
            <a:stCxn id="1162" idx="4"/>
            <a:endCxn id="1163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192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629-AF53-4E03-B449-48D8B1EAA5E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10" name=""/>
          <p:cNvCxnSpPr>
            <a:stCxn id="1206" idx="6"/>
            <a:endCxn id="1202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1" name=""/>
          <p:cNvCxnSpPr>
            <a:stCxn id="1205" idx="0"/>
            <a:endCxn id="1202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5" idx="7"/>
            <a:endCxn id="1208" idx="3"/>
          </p:cNvCxnSpPr>
          <p:nvPr/>
        </p:nvCxnSpPr>
        <p:spPr>
          <a:xfrm flipV="1">
            <a:off x="5451120" y="3912840"/>
            <a:ext cx="1446840" cy="1033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8" idx="0"/>
            <a:endCxn id="1203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4" name=""/>
          <p:cNvCxnSpPr>
            <a:stCxn id="1202" idx="6"/>
            <a:endCxn id="1203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09" idx="6"/>
            <a:endCxn id="1207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06" idx="4"/>
            <a:endCxn id="1207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08" idx="4"/>
            <a:endCxn id="1204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18" name=""/>
          <p:cNvCxnSpPr>
            <a:endCxn id="1205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9" name=""/>
          <p:cNvCxnSpPr>
            <a:stCxn id="1207" idx="6"/>
            <a:endCxn id="1205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07" idx="7"/>
            <a:endCxn id="1202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21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2" name=""/>
          <p:cNvCxnSpPr>
            <a:stCxn id="1203" idx="4"/>
            <a:endCxn id="1204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33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C71-A169-4836-B5BE-C0E4BA1259B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51" name=""/>
          <p:cNvCxnSpPr>
            <a:stCxn id="1247" idx="6"/>
            <a:endCxn id="1243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2" name=""/>
          <p:cNvCxnSpPr>
            <a:stCxn id="1246" idx="0"/>
            <a:endCxn id="1243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246" idx="7"/>
            <a:endCxn id="1249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249" idx="0"/>
            <a:endCxn id="1244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243" idx="6"/>
            <a:endCxn id="1244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250" idx="6"/>
            <a:endCxn id="1248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7" name=""/>
          <p:cNvCxnSpPr>
            <a:stCxn id="1247" idx="4"/>
            <a:endCxn id="1248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8" name=""/>
          <p:cNvCxnSpPr>
            <a:stCxn id="1249" idx="4"/>
            <a:endCxn id="1245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9" name=""/>
          <p:cNvCxnSpPr>
            <a:endCxn id="1246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0" name=""/>
          <p:cNvCxnSpPr>
            <a:stCxn id="1248" idx="6"/>
            <a:endCxn id="1246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61" name=""/>
          <p:cNvCxnSpPr>
            <a:stCxn id="1248" idx="7"/>
            <a:endCxn id="1243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62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3" name=""/>
          <p:cNvCxnSpPr>
            <a:stCxn id="1244" idx="4"/>
            <a:endCxn id="1245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4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534-398F-450F-A44F-7A9316F14B1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raf: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8224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66688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988320" y="4575240"/>
            <a:ext cx="93636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435560" y="433692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510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1940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302520" y="3432240"/>
            <a:ext cx="93636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9654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1" name=""/>
          <p:cNvCxnSpPr>
            <a:stCxn id="97" idx="6"/>
            <a:endCxn id="93" idx="2"/>
          </p:cNvCxnSpPr>
          <p:nvPr/>
        </p:nvCxnSpPr>
        <p:spPr>
          <a:xfrm flipV="1">
            <a:off x="3460680" y="3050280"/>
            <a:ext cx="125496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6" idx="0"/>
            <a:endCxn id="93" idx="4"/>
          </p:cNvCxnSpPr>
          <p:nvPr/>
        </p:nvCxnSpPr>
        <p:spPr>
          <a:xfrm flipV="1">
            <a:off x="4903920" y="3289320"/>
            <a:ext cx="28944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6" idx="7"/>
            <a:endCxn id="99" idx="3"/>
          </p:cNvCxnSpPr>
          <p:nvPr/>
        </p:nvCxnSpPr>
        <p:spPr>
          <a:xfrm flipV="1">
            <a:off x="5235120" y="3831480"/>
            <a:ext cx="12042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9" idx="0"/>
            <a:endCxn id="94" idx="3"/>
          </p:cNvCxnSpPr>
          <p:nvPr/>
        </p:nvCxnSpPr>
        <p:spPr>
          <a:xfrm flipV="1">
            <a:off x="6770160" y="3066480"/>
            <a:ext cx="605880" cy="356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3" idx="6"/>
            <a:endCxn id="94" idx="2"/>
          </p:cNvCxnSpPr>
          <p:nvPr/>
        </p:nvCxnSpPr>
        <p:spPr>
          <a:xfrm flipV="1">
            <a:off x="5670720" y="2895480"/>
            <a:ext cx="1559520" cy="155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0" idx="6"/>
            <a:endCxn id="98" idx="2"/>
          </p:cNvCxnSpPr>
          <p:nvPr/>
        </p:nvCxnSpPr>
        <p:spPr>
          <a:xfrm>
            <a:off x="1631520" y="4193640"/>
            <a:ext cx="102636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7" idx="4"/>
            <a:endCxn id="98" idx="0"/>
          </p:cNvCxnSpPr>
          <p:nvPr/>
        </p:nvCxnSpPr>
        <p:spPr>
          <a:xfrm>
            <a:off x="2982600" y="3517920"/>
            <a:ext cx="15300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9" idx="4"/>
            <a:endCxn id="95" idx="0"/>
          </p:cNvCxnSpPr>
          <p:nvPr/>
        </p:nvCxnSpPr>
        <p:spPr>
          <a:xfrm>
            <a:off x="6770160" y="3898800"/>
            <a:ext cx="68652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endCxn id="96" idx="6"/>
          </p:cNvCxnSpPr>
          <p:nvPr/>
        </p:nvCxnSpPr>
        <p:spPr>
          <a:xfrm flipH="1" flipV="1">
            <a:off x="5381280" y="4565160"/>
            <a:ext cx="1597680" cy="23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8" idx="6"/>
            <a:endCxn id="96" idx="2"/>
          </p:cNvCxnSpPr>
          <p:nvPr/>
        </p:nvCxnSpPr>
        <p:spPr>
          <a:xfrm>
            <a:off x="3612960" y="4422240"/>
            <a:ext cx="813240" cy="143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8" idx="7"/>
            <a:endCxn id="93" idx="3"/>
          </p:cNvCxnSpPr>
          <p:nvPr/>
        </p:nvCxnSpPr>
        <p:spPr>
          <a:xfrm flipV="1">
            <a:off x="3467160" y="3222360"/>
            <a:ext cx="139464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 rot="21252600">
            <a:off x="5995080" y="2647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rot="16938000">
            <a:off x="4674240" y="3379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rot="20055000">
            <a:off x="5344920" y="3796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rot="19463400">
            <a:off x="3531960" y="355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0910600">
            <a:off x="3643200" y="2822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rot="2626200">
            <a:off x="7013160" y="4025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rot="565800">
            <a:off x="5884200" y="4330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 rot="695400">
            <a:off x="3684240" y="4149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rot="4665000">
            <a:off x="2906640" y="36864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rot="832200">
            <a:off x="1836000" y="3965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 rot="19708200">
            <a:off x="6697080" y="2958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B73-C4CC-4781-B235-1EAE83130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92" name=""/>
          <p:cNvCxnSpPr>
            <a:stCxn id="1288" idx="6"/>
            <a:endCxn id="1284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7" idx="0"/>
            <a:endCxn id="1284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4" name=""/>
          <p:cNvCxnSpPr>
            <a:stCxn id="1287" idx="7"/>
            <a:endCxn id="1290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5" name=""/>
          <p:cNvCxnSpPr>
            <a:stCxn id="1290" idx="0"/>
            <a:endCxn id="1285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6" name=""/>
          <p:cNvCxnSpPr>
            <a:stCxn id="1284" idx="6"/>
            <a:endCxn id="1285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91" idx="6"/>
            <a:endCxn id="1289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8" name=""/>
          <p:cNvCxnSpPr>
            <a:stCxn id="1288" idx="4"/>
            <a:endCxn id="1289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0" idx="4"/>
            <a:endCxn id="1286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00" name=""/>
          <p:cNvCxnSpPr>
            <a:endCxn id="1287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01" name=""/>
          <p:cNvCxnSpPr>
            <a:stCxn id="1289" idx="6"/>
            <a:endCxn id="1287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02" name=""/>
          <p:cNvCxnSpPr>
            <a:stCxn id="1289" idx="7"/>
            <a:endCxn id="1284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03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14" name=""/>
          <p:cNvCxnSpPr>
            <a:stCxn id="1285" idx="4"/>
            <a:endCxn id="1286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5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07D-6901-4F72-8318-AE9397FE6F3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33" name=""/>
          <p:cNvCxnSpPr>
            <a:stCxn id="1329" idx="6"/>
            <a:endCxn id="1325" idx="2"/>
          </p:cNvCxnSpPr>
          <p:nvPr/>
        </p:nvCxnSpPr>
        <p:spPr>
          <a:xfrm flipV="1">
            <a:off x="3323880" y="2488680"/>
            <a:ext cx="150732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4" name=""/>
          <p:cNvCxnSpPr>
            <a:stCxn id="1328" idx="0"/>
            <a:endCxn id="1325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35" name=""/>
          <p:cNvCxnSpPr>
            <a:stCxn id="1328" idx="7"/>
            <a:endCxn id="1331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6" name=""/>
          <p:cNvCxnSpPr>
            <a:stCxn id="1331" idx="0"/>
            <a:endCxn id="1326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37" name=""/>
          <p:cNvCxnSpPr>
            <a:stCxn id="1325" idx="6"/>
            <a:endCxn id="1326" idx="2"/>
          </p:cNvCxnSpPr>
          <p:nvPr/>
        </p:nvCxnSpPr>
        <p:spPr>
          <a:xfrm flipV="1">
            <a:off x="5971680" y="2204640"/>
            <a:ext cx="186444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8" name=""/>
          <p:cNvCxnSpPr>
            <a:stCxn id="1332" idx="6"/>
            <a:endCxn id="1330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9" name=""/>
          <p:cNvCxnSpPr>
            <a:stCxn id="1329" idx="4"/>
            <a:endCxn id="1330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0" name=""/>
          <p:cNvCxnSpPr>
            <a:stCxn id="1331" idx="4"/>
            <a:endCxn id="1327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41" name=""/>
          <p:cNvCxnSpPr/>
          <p:nvPr/>
        </p:nvCxnSpPr>
        <p:spPr>
          <a:xfrm flipH="1" flipV="1">
            <a:off x="5638320" y="5257440"/>
            <a:ext cx="1915200" cy="43560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42" name=""/>
          <p:cNvCxnSpPr>
            <a:stCxn id="1330" idx="6"/>
            <a:endCxn id="1328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3" name=""/>
          <p:cNvCxnSpPr>
            <a:stCxn id="1330" idx="7"/>
            <a:endCxn id="1325" idx="3"/>
          </p:cNvCxnSpPr>
          <p:nvPr/>
        </p:nvCxnSpPr>
        <p:spPr>
          <a:xfrm flipV="1">
            <a:off x="3332160" y="2792160"/>
            <a:ext cx="1674000" cy="1892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4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55" name=""/>
          <p:cNvCxnSpPr>
            <a:stCxn id="1326" idx="4"/>
            <a:endCxn id="1327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6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8BD-F767-416F-B29E-52156FA4D36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74" name=""/>
          <p:cNvCxnSpPr>
            <a:stCxn id="1370" idx="6"/>
            <a:endCxn id="1366" idx="2"/>
          </p:cNvCxnSpPr>
          <p:nvPr/>
        </p:nvCxnSpPr>
        <p:spPr>
          <a:xfrm flipV="1">
            <a:off x="3324240" y="2488680"/>
            <a:ext cx="149760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75" name=""/>
          <p:cNvCxnSpPr>
            <a:stCxn id="1369" idx="0"/>
            <a:endCxn id="1366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76" name=""/>
          <p:cNvCxnSpPr>
            <a:stCxn id="1369" idx="7"/>
            <a:endCxn id="1372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2" idx="0"/>
            <a:endCxn id="1367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78" name=""/>
          <p:cNvCxnSpPr>
            <a:stCxn id="1366" idx="6"/>
            <a:endCxn id="1367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>
            <a:stCxn id="1373" idx="6"/>
            <a:endCxn id="1371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70" idx="4"/>
            <a:endCxn id="1371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72" idx="4"/>
            <a:endCxn id="1368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82" name=""/>
          <p:cNvCxnSpPr>
            <a:endCxn id="1369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83" name=""/>
          <p:cNvCxnSpPr>
            <a:stCxn id="1371" idx="6"/>
            <a:endCxn id="1369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71" idx="7"/>
            <a:endCxn id="1366" idx="3"/>
          </p:cNvCxnSpPr>
          <p:nvPr/>
        </p:nvCxnSpPr>
        <p:spPr>
          <a:xfrm flipV="1">
            <a:off x="3332160" y="2801520"/>
            <a:ext cx="1674000" cy="188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5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96" name=""/>
          <p:cNvCxnSpPr>
            <a:stCxn id="1367" idx="4"/>
            <a:endCxn id="1368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7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376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990-D437-4B14-9890-320C534ED04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5" name=""/>
          <p:cNvCxnSpPr>
            <a:stCxn id="1411" idx="6"/>
            <a:endCxn id="1407" idx="2"/>
          </p:cNvCxnSpPr>
          <p:nvPr/>
        </p:nvCxnSpPr>
        <p:spPr>
          <a:xfrm flipV="1">
            <a:off x="3324240" y="2488680"/>
            <a:ext cx="149760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0" idx="0"/>
            <a:endCxn id="1407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17" name=""/>
          <p:cNvCxnSpPr>
            <a:stCxn id="1410" idx="7"/>
            <a:endCxn id="1413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8" name=""/>
          <p:cNvCxnSpPr>
            <a:stCxn id="1413" idx="0"/>
            <a:endCxn id="1408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19" name=""/>
          <p:cNvCxnSpPr>
            <a:stCxn id="1407" idx="6"/>
            <a:endCxn id="1408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stCxn id="1414" idx="6"/>
            <a:endCxn id="1412" idx="2"/>
          </p:cNvCxnSpPr>
          <p:nvPr/>
        </p:nvCxnSpPr>
        <p:spPr>
          <a:xfrm>
            <a:off x="1131840" y="4573440"/>
            <a:ext cx="122472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21" name=""/>
          <p:cNvCxnSpPr>
            <a:stCxn id="1411" idx="4"/>
            <a:endCxn id="1412" idx="0"/>
          </p:cNvCxnSpPr>
          <p:nvPr/>
        </p:nvCxnSpPr>
        <p:spPr>
          <a:xfrm>
            <a:off x="2754000" y="3331800"/>
            <a:ext cx="183240" cy="12214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3" idx="4"/>
            <a:endCxn id="1409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3" name=""/>
          <p:cNvCxnSpPr>
            <a:endCxn id="1410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4" name=""/>
          <p:cNvCxnSpPr>
            <a:stCxn id="1412" idx="6"/>
            <a:endCxn id="1410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5" name=""/>
          <p:cNvCxnSpPr>
            <a:stCxn id="1412" idx="7"/>
            <a:endCxn id="1407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6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37" name=""/>
          <p:cNvCxnSpPr>
            <a:stCxn id="1408" idx="4"/>
            <a:endCxn id="1409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8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006-62BC-4658-B447-CC26156FF84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56" name=""/>
          <p:cNvCxnSpPr>
            <a:stCxn id="1452" idx="6"/>
            <a:endCxn id="1448" idx="2"/>
          </p:cNvCxnSpPr>
          <p:nvPr/>
        </p:nvCxnSpPr>
        <p:spPr>
          <a:xfrm flipV="1">
            <a:off x="3333600" y="2488680"/>
            <a:ext cx="148824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1" idx="0"/>
            <a:endCxn id="1448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58" name=""/>
          <p:cNvCxnSpPr>
            <a:stCxn id="1451" idx="7"/>
            <a:endCxn id="1454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>
            <a:stCxn id="1454" idx="0"/>
            <a:endCxn id="1449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0" name=""/>
          <p:cNvCxnSpPr>
            <a:stCxn id="1448" idx="6"/>
            <a:endCxn id="1449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61" name=""/>
          <p:cNvCxnSpPr>
            <a:stCxn id="1455" idx="6"/>
            <a:endCxn id="1453" idx="2"/>
          </p:cNvCxnSpPr>
          <p:nvPr/>
        </p:nvCxnSpPr>
        <p:spPr>
          <a:xfrm>
            <a:off x="1131840" y="4573440"/>
            <a:ext cx="122472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62" name=""/>
          <p:cNvCxnSpPr>
            <a:stCxn id="1452" idx="4"/>
            <a:endCxn id="1453" idx="0"/>
          </p:cNvCxnSpPr>
          <p:nvPr/>
        </p:nvCxnSpPr>
        <p:spPr>
          <a:xfrm>
            <a:off x="2754000" y="3341160"/>
            <a:ext cx="183240" cy="12121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3" name=""/>
          <p:cNvCxnSpPr>
            <a:stCxn id="1454" idx="4"/>
            <a:endCxn id="1450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4" name=""/>
          <p:cNvCxnSpPr>
            <a:endCxn id="1451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5" name=""/>
          <p:cNvCxnSpPr>
            <a:stCxn id="1453" idx="6"/>
            <a:endCxn id="1451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6" name=""/>
          <p:cNvCxnSpPr>
            <a:stCxn id="1453" idx="7"/>
            <a:endCxn id="1448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7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"/>
          <p:cNvSpPr/>
          <p:nvPr/>
        </p:nvSpPr>
        <p:spPr>
          <a:xfrm rot="4665000">
            <a:off x="2754360" y="379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78" name=""/>
          <p:cNvCxnSpPr>
            <a:stCxn id="1449" idx="4"/>
            <a:endCxn id="1450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79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3C5-B7AC-446A-8D37-34CFA2B0E73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97" name=""/>
          <p:cNvCxnSpPr>
            <a:stCxn id="1493" idx="6"/>
            <a:endCxn id="1489" idx="2"/>
          </p:cNvCxnSpPr>
          <p:nvPr/>
        </p:nvCxnSpPr>
        <p:spPr>
          <a:xfrm flipV="1">
            <a:off x="3333600" y="2488680"/>
            <a:ext cx="148824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8" name=""/>
          <p:cNvCxnSpPr>
            <a:stCxn id="1492" idx="0"/>
            <a:endCxn id="1489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99" name=""/>
          <p:cNvCxnSpPr>
            <a:stCxn id="1492" idx="7"/>
            <a:endCxn id="1495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0" name=""/>
          <p:cNvCxnSpPr>
            <a:stCxn id="1495" idx="0"/>
            <a:endCxn id="1490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1" name=""/>
          <p:cNvCxnSpPr>
            <a:stCxn id="1489" idx="6"/>
            <a:endCxn id="1490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2" name=""/>
          <p:cNvCxnSpPr>
            <a:stCxn id="1496" idx="6"/>
            <a:endCxn id="1494" idx="2"/>
          </p:cNvCxnSpPr>
          <p:nvPr/>
        </p:nvCxnSpPr>
        <p:spPr>
          <a:xfrm>
            <a:off x="1141200" y="4573440"/>
            <a:ext cx="1215000" cy="4168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3" name=""/>
          <p:cNvCxnSpPr>
            <a:stCxn id="1493" idx="4"/>
            <a:endCxn id="1494" idx="0"/>
          </p:cNvCxnSpPr>
          <p:nvPr/>
        </p:nvCxnSpPr>
        <p:spPr>
          <a:xfrm>
            <a:off x="2754000" y="3341160"/>
            <a:ext cx="183240" cy="12121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4" name=""/>
          <p:cNvCxnSpPr>
            <a:stCxn id="1495" idx="4"/>
            <a:endCxn id="1491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5" name=""/>
          <p:cNvCxnSpPr>
            <a:endCxn id="1492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6" name=""/>
          <p:cNvCxnSpPr>
            <a:stCxn id="1494" idx="6"/>
            <a:endCxn id="1492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7" name=""/>
          <p:cNvCxnSpPr>
            <a:stCxn id="1494" idx="7"/>
            <a:endCxn id="1489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0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"/>
          <p:cNvSpPr/>
          <p:nvPr/>
        </p:nvSpPr>
        <p:spPr>
          <a:xfrm rot="4665000">
            <a:off x="2754360" y="379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9" name=""/>
          <p:cNvCxnSpPr>
            <a:stCxn id="1490" idx="4"/>
            <a:endCxn id="1491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E67-66A3-49FC-AD61-FCAF65D9873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sobine algoritm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o najkraće putanje je takođe najkraća putanja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Greedy Algorith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drvo najkraćih putanja od početnog čvora do svih drugih čvoroava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ingle source shortest pa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 3: algoritam radi samo ako su težine grana pozitiv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1B0-0D1D-4E8A-9874-0B3892D7B4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sobine algoritm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533520" y="2179440"/>
            <a:ext cx="7489800" cy="2949480"/>
            <a:chOff x="533520" y="2179440"/>
            <a:chExt cx="7489800" cy="2949480"/>
          </a:xfrm>
        </p:grpSpPr>
        <p:sp>
          <p:nvSpPr>
            <p:cNvPr id="1533" name=""/>
            <p:cNvSpPr/>
            <p:nvPr/>
          </p:nvSpPr>
          <p:spPr>
            <a:xfrm>
              <a:off x="4572000" y="238428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086600" y="2228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V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35680" y="4136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82920" y="389880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FW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62320" y="2612880"/>
              <a:ext cx="93636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F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14600" y="375588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149880" y="2993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G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3527280"/>
              <a:ext cx="93636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N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541" name=""/>
            <p:cNvCxnSpPr>
              <a:stCxn id="1537" idx="6"/>
              <a:endCxn id="1533" idx="2"/>
            </p:cNvCxnSpPr>
            <p:nvPr/>
          </p:nvCxnSpPr>
          <p:spPr>
            <a:xfrm flipV="1">
              <a:off x="3317400" y="2612160"/>
              <a:ext cx="123588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/>
            <p:nvPr/>
          </p:nvCxnSpPr>
          <p:spPr>
            <a:xfrm flipV="1">
              <a:off x="4750920" y="2840760"/>
              <a:ext cx="289440" cy="101988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3" name=""/>
            <p:cNvCxnSpPr>
              <a:stCxn id="1536" idx="7"/>
              <a:endCxn id="1539" idx="3"/>
            </p:cNvCxnSpPr>
            <p:nvPr/>
          </p:nvCxnSpPr>
          <p:spPr>
            <a:xfrm flipV="1">
              <a:off x="5082840" y="3403080"/>
              <a:ext cx="1204200" cy="54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4" name=""/>
            <p:cNvCxnSpPr>
              <a:stCxn id="1539" idx="0"/>
              <a:endCxn id="1534" idx="3"/>
            </p:cNvCxnSpPr>
            <p:nvPr/>
          </p:nvCxnSpPr>
          <p:spPr>
            <a:xfrm flipV="1">
              <a:off x="6618240" y="2637360"/>
              <a:ext cx="605520" cy="3373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5" name=""/>
            <p:cNvCxnSpPr>
              <a:stCxn id="1533" idx="6"/>
              <a:endCxn id="1534" idx="2"/>
            </p:cNvCxnSpPr>
            <p:nvPr/>
          </p:nvCxnSpPr>
          <p:spPr>
            <a:xfrm flipV="1">
              <a:off x="5527440" y="2457360"/>
              <a:ext cx="1540440" cy="15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6" name=""/>
            <p:cNvCxnSpPr/>
            <p:nvPr/>
          </p:nvCxnSpPr>
          <p:spPr>
            <a:xfrm>
              <a:off x="1488960" y="3736440"/>
              <a:ext cx="1007280" cy="2293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7" name=""/>
            <p:cNvCxnSpPr/>
            <p:nvPr/>
          </p:nvCxnSpPr>
          <p:spPr>
            <a:xfrm>
              <a:off x="2819160" y="3050640"/>
              <a:ext cx="153000" cy="6483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8" name=""/>
            <p:cNvCxnSpPr/>
            <p:nvPr/>
          </p:nvCxnSpPr>
          <p:spPr>
            <a:xfrm>
              <a:off x="6629040" y="3450600"/>
              <a:ext cx="686520" cy="6483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9" name=""/>
            <p:cNvCxnSpPr/>
            <p:nvPr/>
          </p:nvCxnSpPr>
          <p:spPr>
            <a:xfrm flipH="1" flipV="1">
              <a:off x="5238360" y="4107600"/>
              <a:ext cx="1597680" cy="23868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50" name=""/>
            <p:cNvCxnSpPr/>
            <p:nvPr/>
          </p:nvCxnSpPr>
          <p:spPr>
            <a:xfrm>
              <a:off x="3470040" y="3965040"/>
              <a:ext cx="794520" cy="1436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51" name=""/>
            <p:cNvCxnSpPr>
              <a:stCxn id="1538" idx="7"/>
              <a:endCxn id="1533" idx="3"/>
            </p:cNvCxnSpPr>
            <p:nvPr/>
          </p:nvCxnSpPr>
          <p:spPr>
            <a:xfrm flipV="1">
              <a:off x="3314520" y="2792880"/>
              <a:ext cx="1394280" cy="1010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52" name=""/>
            <p:cNvSpPr/>
            <p:nvPr/>
          </p:nvSpPr>
          <p:spPr>
            <a:xfrm rot="21252600">
              <a:off x="5842800" y="22096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4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6938000">
              <a:off x="4521960" y="29412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0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20055000">
              <a:off x="5192640" y="33584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8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19463400">
              <a:off x="3379680" y="31204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74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20910600">
              <a:off x="3490920" y="23839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84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2626200">
              <a:off x="6786720" y="35870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9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565800">
              <a:off x="5731560" y="389196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695400">
              <a:off x="3531600" y="37112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23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4665000">
              <a:off x="2754360" y="32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3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832200">
              <a:off x="1683720" y="35269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55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9708200">
              <a:off x="6544800" y="2511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563" name=""/>
            <p:cNvCxnSpPr>
              <a:stCxn id="1534" idx="4"/>
              <a:endCxn id="1535" idx="7"/>
            </p:cNvCxnSpPr>
            <p:nvPr/>
          </p:nvCxnSpPr>
          <p:spPr>
            <a:xfrm>
              <a:off x="7554600" y="2704680"/>
              <a:ext cx="81360" cy="1479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64" name=""/>
            <p:cNvSpPr/>
            <p:nvPr/>
          </p:nvSpPr>
          <p:spPr>
            <a:xfrm rot="5208000">
              <a:off x="7418520" y="30960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0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054520" y="4760640"/>
              <a:ext cx="48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</a:rPr>
                <a:t>Primj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</a:rPr>
                <a:t>drvo najkraćih putanja iz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land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7AD-2A6E-4AAB-90D1-5579311674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jkst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 algoritam gradi drv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toji putanja od svakog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vora do početnog č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primjer, tražimo najkraće puteve od čvora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62120" y="54100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ijednosti na granama su cijene ili tež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ijednosti pored čvorova su ukupne tež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1066680" y="3200400"/>
            <a:ext cx="2133720" cy="2057400"/>
            <a:chOff x="1066680" y="3200400"/>
            <a:chExt cx="2133720" cy="2057400"/>
          </a:xfrm>
        </p:grpSpPr>
        <p:sp>
          <p:nvSpPr>
            <p:cNvPr id="1570" name=""/>
            <p:cNvSpPr/>
            <p:nvPr/>
          </p:nvSpPr>
          <p:spPr>
            <a:xfrm>
              <a:off x="1905120" y="320040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0666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05120" y="487692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819520" y="487692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81952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0512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1371600" y="3504960"/>
              <a:ext cx="5335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57400" y="35812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2285640" y="3504960"/>
              <a:ext cx="6094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7920" y="42670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86000" y="42670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05740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86000" y="5029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7180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371600" y="3505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523880" y="3886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981080" y="3581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590920" y="35053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86000" y="3886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981080" y="4403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95480" y="4403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86000" y="4648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800600" y="3048120"/>
            <a:ext cx="2362320" cy="2209680"/>
            <a:chOff x="4800600" y="3048120"/>
            <a:chExt cx="2362320" cy="2209680"/>
          </a:xfrm>
        </p:grpSpPr>
        <p:sp>
          <p:nvSpPr>
            <p:cNvPr id="1593" name=""/>
            <p:cNvSpPr/>
            <p:nvPr/>
          </p:nvSpPr>
          <p:spPr>
            <a:xfrm>
              <a:off x="5638680" y="320040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80060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638680" y="487692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553080" y="487692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5530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6386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5105520" y="3504960"/>
              <a:ext cx="533160" cy="53316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791320" y="3581280"/>
              <a:ext cx="0" cy="45720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19920" y="4267080"/>
              <a:ext cx="53316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791320" y="4419720"/>
              <a:ext cx="0" cy="45720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19920" y="5029200"/>
              <a:ext cx="53316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943600" y="30481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91320" y="3733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58000" y="3809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867280" y="4572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781680" y="4572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800600" y="3657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B87-DC26-40F6-8C17-F56C07A693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vaki čvor, čuva se sledeća inform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oolean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 da li nam je poznat najkraći put do tog čvor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 početku je tru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 samo za početni čvor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dužina najkraćeg poznatog puta do datog čvor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0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za početni čvor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prethodnik na tom putu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 početku, nepoznat za sve čvorove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goritam radi po fazama - u svakoj faz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od čvorova za koje nam nije poznata najkraća putanja, izabrati čvo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sa najmanjim do sada poznatim rastojanjem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postaviti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ovo boolean polje n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za sve čvorov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susjedne čvoru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, test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iramo da li je dužina poznatog puta veća od zbira dužine najkraćeg puta do v i rastojanja od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;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ako jeste, postavljamo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ov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jkraći put na novu vrijednost a za prethodnika čvor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pr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oglašavam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1FF-1A12-4240-8D9B-FAEF4A7B25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1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71600" y="2286000"/>
            <a:ext cx="6510600" cy="3063600"/>
            <a:chOff x="1371600" y="2286000"/>
            <a:chExt cx="6510600" cy="3063600"/>
          </a:xfrm>
        </p:grpSpPr>
        <p:sp>
          <p:nvSpPr>
            <p:cNvPr id="125" name=""/>
            <p:cNvSpPr/>
            <p:nvPr/>
          </p:nvSpPr>
          <p:spPr>
            <a:xfrm>
              <a:off x="1371600" y="2286000"/>
              <a:ext cx="6200640" cy="987480"/>
            </a:xfrm>
            <a:prstGeom prst="roundRect">
              <a:avLst>
                <a:gd name="adj" fmla="val 260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2287440"/>
              <a:ext cx="6200640" cy="984240"/>
            </a:xfrm>
            <a:prstGeom prst="roundRect">
              <a:avLst>
                <a:gd name="adj" fmla="val 25352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9720" y="2628720"/>
              <a:ext cx="158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8960" y="2628720"/>
              <a:ext cx="320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5560" y="2628720"/>
              <a:ext cx="524340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82560" y="4376520"/>
              <a:ext cx="5729400" cy="973080"/>
            </a:xfrm>
            <a:prstGeom prst="roundRect">
              <a:avLst>
                <a:gd name="adj" fmla="val 2647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2560" y="4378320"/>
              <a:ext cx="5729400" cy="969840"/>
            </a:xfrm>
            <a:prstGeom prst="roundRect">
              <a:avLst>
                <a:gd name="adj" fmla="val 25713"/>
              </a:avLst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40040" y="4862520"/>
              <a:ext cx="158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68960" y="4862520"/>
              <a:ext cx="320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55880" y="4862520"/>
              <a:ext cx="511308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5400" y="46339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540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0880" y="47638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DF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3188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1880" y="4635360"/>
              <a:ext cx="5349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8680" y="4763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00760" y="46339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9320" y="4635360"/>
              <a:ext cx="5205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15520" y="4763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OR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4036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38560" y="4635360"/>
              <a:ext cx="5367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8600" y="47638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M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43880" y="46339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4388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92480" y="476388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F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5800" y="46339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5800" y="4635360"/>
              <a:ext cx="51912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0600" y="4763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JF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9228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9084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7760" y="476388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LA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2104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21040" y="24732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6520" y="2557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472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24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3200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3200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3200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900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5000" y="2757240"/>
              <a:ext cx="1728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04840" y="2757240"/>
              <a:ext cx="4701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4080" y="24717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57200" y="2557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1776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5400" y="27572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35400" y="30877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5400" y="27716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082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798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4080" y="2757240"/>
              <a:ext cx="4557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67400" y="2471760"/>
              <a:ext cx="4557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67400" y="2473200"/>
              <a:ext cx="4557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8504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6108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87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78720" y="27572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78720" y="30877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78720" y="27716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357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231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1560" y="27572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2600" y="24717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5260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01560" y="255744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N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18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356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356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356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67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2420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52600" y="27572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512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512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096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3700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52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5608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5608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5608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1164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990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928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2471760"/>
              <a:ext cx="4554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95920" y="24732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32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58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68160" y="2557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0688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688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688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800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13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95920" y="2757240"/>
              <a:ext cx="4554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000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2000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68600" y="255744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T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6156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3096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096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096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041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739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20000" y="27572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48160" y="2471760"/>
              <a:ext cx="4701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4816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640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5768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5948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5948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5948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323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024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48160" y="2757240"/>
              <a:ext cx="45432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7328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7328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08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52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460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8460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8460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74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272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3280" y="27572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760" y="24717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99320" y="2473200"/>
              <a:ext cx="47124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166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0884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90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1028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1028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028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8312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05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0076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76680" y="24717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668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6084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52720" y="2557440"/>
              <a:ext cx="26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38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7640" y="2757240"/>
              <a:ext cx="3204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7640" y="3087720"/>
              <a:ext cx="3204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7640" y="2771640"/>
              <a:ext cx="3204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608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4648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7668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97040" y="44337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97040" y="44337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66720" y="3030480"/>
              <a:ext cx="177840" cy="14032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44766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44766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78040" y="3016080"/>
              <a:ext cx="236844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71920" y="44193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71920" y="44193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617720" y="3016080"/>
              <a:ext cx="142884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45000" y="44337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45000" y="44337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525640" y="3001680"/>
              <a:ext cx="730440" cy="14464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3540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3540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85960" y="3016080"/>
              <a:ext cx="69876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70120" y="44053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70120" y="44053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35280" y="3001680"/>
              <a:ext cx="195120" cy="1403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7488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488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24200" y="3016080"/>
              <a:ext cx="21096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10040" y="45622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10040" y="45622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46480" y="3016080"/>
              <a:ext cx="2595240" cy="15890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49520" y="44053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49520" y="44053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38560" y="3016080"/>
              <a:ext cx="2588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86280" y="44766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86280" y="44766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65360" y="3016080"/>
              <a:ext cx="235296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25760" y="44053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25760" y="44053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7000" y="3016080"/>
              <a:ext cx="5680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9568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9568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660840" y="3016080"/>
              <a:ext cx="35712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73720" y="44337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73720" y="44337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321240" y="3016080"/>
              <a:ext cx="26028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22840" y="45338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22840" y="45338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984480" y="3030480"/>
              <a:ext cx="28576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30400" y="45338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30400" y="45338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092400" y="3016080"/>
              <a:ext cx="23860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4692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4692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89440" y="3016080"/>
              <a:ext cx="40500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40360" y="44337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40360" y="44337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7800" y="3016080"/>
              <a:ext cx="73008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184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4184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822840" y="3030480"/>
              <a:ext cx="76176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236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0236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10040" y="3016080"/>
              <a:ext cx="3412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49400" y="44481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49400" y="44481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11400" y="2987640"/>
              <a:ext cx="2175120" cy="14889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2240" y="44766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02240" y="44766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763880" y="3016080"/>
              <a:ext cx="236988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0416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0416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051680" y="3016080"/>
              <a:ext cx="3254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5720" y="2570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43440" y="46274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095880" y="167652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= O(n+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8AC-DA42-41A2-9F83-0355C33AA0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 podatka za svaki čv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li postoji najkraći put (stavljamo +), najkraći put do sada i prethodnik čvora u najkraćem pu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304920" y="2286000"/>
            <a:ext cx="1904400" cy="1828440"/>
            <a:chOff x="304920" y="2286000"/>
            <a:chExt cx="1904400" cy="1828440"/>
          </a:xfrm>
        </p:grpSpPr>
        <p:sp>
          <p:nvSpPr>
            <p:cNvPr id="1615" name=""/>
            <p:cNvSpPr/>
            <p:nvPr/>
          </p:nvSpPr>
          <p:spPr>
            <a:xfrm>
              <a:off x="1053360" y="228600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920" y="3030840"/>
              <a:ext cx="34020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053360" y="377604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69480" y="377604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869480" y="3030840"/>
              <a:ext cx="33984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053360" y="3030840"/>
              <a:ext cx="33984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77080" y="2556720"/>
              <a:ext cx="476280" cy="47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189080" y="26244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 flipV="1">
              <a:off x="1392840" y="2556720"/>
              <a:ext cx="543960" cy="47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45120" y="3233880"/>
              <a:ext cx="40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393200" y="323388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189080" y="33696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393200" y="391140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005560" y="33696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77080" y="255960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12800" y="28954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21040" y="26229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665360" y="2559600"/>
              <a:ext cx="2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393200" y="28954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121040" y="33555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937160" y="33555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393200" y="357300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2819520" y="2590920"/>
            <a:ext cx="838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čv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"/>
          <p:cNvSpPr/>
          <p:nvPr/>
        </p:nvSpPr>
        <p:spPr>
          <a:xfrm>
            <a:off x="3581280" y="2590920"/>
            <a:ext cx="9144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poc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"/>
          <p:cNvSpPr/>
          <p:nvPr/>
        </p:nvSpPr>
        <p:spPr>
          <a:xfrm>
            <a:off x="44956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5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"/>
          <p:cNvSpPr/>
          <p:nvPr/>
        </p:nvSpPr>
        <p:spPr>
          <a:xfrm>
            <a:off x="5105520" y="2590920"/>
            <a:ext cx="838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"/>
          <p:cNvSpPr/>
          <p:nvPr/>
        </p:nvSpPr>
        <p:spPr>
          <a:xfrm>
            <a:off x="58672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65530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11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"/>
          <p:cNvSpPr/>
          <p:nvPr/>
        </p:nvSpPr>
        <p:spPr>
          <a:xfrm>
            <a:off x="72388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9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"/>
          <p:cNvSpPr/>
          <p:nvPr/>
        </p:nvSpPr>
        <p:spPr>
          <a:xfrm>
            <a:off x="79246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609480" y="4267080"/>
            <a:ext cx="2176560" cy="1905120"/>
            <a:chOff x="609480" y="4267080"/>
            <a:chExt cx="2176560" cy="1905120"/>
          </a:xfrm>
        </p:grpSpPr>
        <p:sp>
          <p:nvSpPr>
            <p:cNvPr id="1646" name=""/>
            <p:cNvSpPr/>
            <p:nvPr/>
          </p:nvSpPr>
          <p:spPr>
            <a:xfrm>
              <a:off x="1433520" y="426708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5800" y="504360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433520" y="581976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51080" y="581976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51080" y="504360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433520" y="504360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957240" y="4549680"/>
              <a:ext cx="476280" cy="49392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569960" y="4619520"/>
              <a:ext cx="0" cy="4240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74800" y="5254560"/>
              <a:ext cx="47628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69960" y="5396040"/>
              <a:ext cx="0" cy="42372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774800" y="5961240"/>
              <a:ext cx="47628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752480" y="426708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00200" y="4724280"/>
              <a:ext cx="2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14600" y="4800600"/>
              <a:ext cx="2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76520" y="5562720"/>
              <a:ext cx="2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438280" y="5562720"/>
              <a:ext cx="2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9480" y="472428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820-47B5-4BD7-9D5B-61A97C2645E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Najkraće putanje između svih čvoro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lgorit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981F-4E20-4AE3-A657-C052ECDA38E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341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pozi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O(n(n+m)log n)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</p:txBody>
      </p:sp>
      <p:pic>
        <p:nvPicPr>
          <p:cNvPr id="1666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1771560" cy="3679920"/>
          </a:xfrm>
          <a:prstGeom prst="rect">
            <a:avLst/>
          </a:prstGeom>
          <a:ln w="0">
            <a:noFill/>
          </a:ln>
        </p:spPr>
      </p:pic>
      <p:grpSp>
        <p:nvGrpSpPr>
          <p:cNvPr id="1667" name=""/>
          <p:cNvGrpSpPr/>
          <p:nvPr/>
        </p:nvGrpSpPr>
        <p:grpSpPr>
          <a:xfrm>
            <a:off x="3200400" y="1371600"/>
            <a:ext cx="4343400" cy="2133720"/>
            <a:chOff x="3200400" y="1371600"/>
            <a:chExt cx="4343400" cy="2133720"/>
          </a:xfrm>
        </p:grpSpPr>
        <p:sp>
          <p:nvSpPr>
            <p:cNvPr id="1668" name=""/>
            <p:cNvSpPr/>
            <p:nvPr/>
          </p:nvSpPr>
          <p:spPr>
            <a:xfrm>
              <a:off x="3886200" y="1600200"/>
              <a:ext cx="3429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O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mož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že stići možda putujući od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 zatim od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00400" y="1371600"/>
              <a:ext cx="4343400" cy="2133720"/>
            </a:xfrm>
            <a:prstGeom prst="cloudCallout">
              <a:avLst>
                <a:gd name="adj1" fmla="val -46273"/>
                <a:gd name="adj2" fmla="val 74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4876920" y="4038480"/>
            <a:ext cx="4114800" cy="20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risti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čk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grami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an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Flo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gorit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Svi parovi najkraćih pute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C05-34F6-4BCD-807D-6089C70A76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/>
          </p:nvPr>
        </p:nvSpPr>
        <p:spPr>
          <a:xfrm>
            <a:off x="696600" y="1523880"/>
            <a:ext cx="7304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risati čvorove brojevim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…,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kraća putanja od čv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 čvo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 prolaska kroz bilo koji drugi č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ht(edge(i,j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0099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sr-Latn-CS" sz="2400" spc="-1" strike="noStrike">
                <a:solidFill>
                  <a:srgbClr val="cc0099"/>
                </a:solidFill>
                <a:latin typeface="Arial"/>
              </a:rPr>
              <a:t>ka to bude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cc0099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kraća putanja između čvo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a prolazi kroz čvoro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, …, k, as intermediate vertices, 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a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ješenje načeg prob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>
            <a:off x="7758000" y="152280"/>
            <a:ext cx="1100160" cy="2286000"/>
          </a:xfrm>
          <a:prstGeom prst="rect">
            <a:avLst/>
          </a:prstGeom>
          <a:ln w="0">
            <a:noFill/>
          </a:ln>
        </p:spPr>
      </p:pic>
      <p:sp>
        <p:nvSpPr>
          <p:cNvPr id="1674" name="PlaceHolder 2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Svi parovi najkraćih pute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C76-90B7-4806-837C-95FAD4D701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3174840" y="2049480"/>
            <a:ext cx="11160" cy="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"/>
          <p:cNvSpPr/>
          <p:nvPr/>
        </p:nvSpPr>
        <p:spPr>
          <a:xfrm>
            <a:off x="4194000" y="2657520"/>
            <a:ext cx="500400" cy="458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"/>
          <p:cNvSpPr/>
          <p:nvPr/>
        </p:nvSpPr>
        <p:spPr>
          <a:xfrm>
            <a:off x="5978520" y="2284560"/>
            <a:ext cx="498600" cy="458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"/>
          <p:cNvSpPr/>
          <p:nvPr/>
        </p:nvSpPr>
        <p:spPr>
          <a:xfrm>
            <a:off x="2819520" y="1752480"/>
            <a:ext cx="500040" cy="46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79" name=""/>
          <p:cNvCxnSpPr>
            <a:stCxn id="1678" idx="4"/>
            <a:endCxn id="1676" idx="1"/>
          </p:cNvCxnSpPr>
          <p:nvPr/>
        </p:nvCxnSpPr>
        <p:spPr>
          <a:xfrm flipH="1" rot="16200000">
            <a:off x="3430800" y="1869840"/>
            <a:ext cx="473760" cy="1197360"/>
          </a:xfrm>
          <a:prstGeom prst="curvedConnector5">
            <a:avLst>
              <a:gd name="adj1" fmla="val 42889"/>
              <a:gd name="adj2" fmla="val 49984"/>
              <a:gd name="adj3" fmla="val 4288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0" name=""/>
          <p:cNvCxnSpPr>
            <a:stCxn id="1676" idx="7"/>
            <a:endCxn id="1677" idx="3"/>
          </p:cNvCxnSpPr>
          <p:nvPr/>
        </p:nvCxnSpPr>
        <p:spPr>
          <a:xfrm flipH="1" flipV="1" rot="5400000">
            <a:off x="5330880" y="1985040"/>
            <a:ext cx="10080" cy="1430640"/>
          </a:xfrm>
          <a:prstGeom prst="curvedConnector5">
            <a:avLst>
              <a:gd name="adj1" fmla="val -1914814"/>
              <a:gd name="adj2" fmla="val 23408"/>
              <a:gd name="adj3" fmla="val -191481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1" name=""/>
          <p:cNvSpPr/>
          <p:nvPr/>
        </p:nvSpPr>
        <p:spPr>
          <a:xfrm>
            <a:off x="1314360" y="2590920"/>
            <a:ext cx="28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"/>
          <p:cNvSpPr/>
          <p:nvPr/>
        </p:nvSpPr>
        <p:spPr>
          <a:xfrm>
            <a:off x="4776480" y="2895480"/>
            <a:ext cx="28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3" name=""/>
          <p:cNvCxnSpPr>
            <a:stCxn id="1678" idx="5"/>
            <a:endCxn id="1677" idx="2"/>
          </p:cNvCxnSpPr>
          <p:nvPr/>
        </p:nvCxnSpPr>
        <p:spPr>
          <a:xfrm flipH="1" rot="16200000">
            <a:off x="4428360" y="983160"/>
            <a:ext cx="349920" cy="271368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684" name=""/>
          <p:cNvSpPr/>
          <p:nvPr/>
        </p:nvSpPr>
        <p:spPr>
          <a:xfrm>
            <a:off x="3222720" y="160020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 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1720800" y="3917880"/>
                <a:ext cx="618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ko je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ight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dg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ko je 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rana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ač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76520" y="5410080"/>
                <a:ext cx="4505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,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379-8265-4101-A82E-86BCBCA1611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761040" y="182880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"/>
          <p:cNvSpPr/>
          <p:nvPr/>
        </p:nvSpPr>
        <p:spPr>
          <a:xfrm>
            <a:off x="1360440" y="4987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"/>
          <p:cNvSpPr/>
          <p:nvPr/>
        </p:nvSpPr>
        <p:spPr>
          <a:xfrm>
            <a:off x="1360440" y="23972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"/>
          <p:cNvSpPr/>
          <p:nvPr/>
        </p:nvSpPr>
        <p:spPr>
          <a:xfrm>
            <a:off x="2655720" y="36162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"/>
          <p:cNvSpPr/>
          <p:nvPr/>
        </p:nvSpPr>
        <p:spPr>
          <a:xfrm>
            <a:off x="4103640" y="4911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3" name=""/>
          <p:cNvSpPr/>
          <p:nvPr/>
        </p:nvSpPr>
        <p:spPr>
          <a:xfrm>
            <a:off x="4027320" y="23972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94" name=""/>
          <p:cNvCxnSpPr>
            <a:stCxn id="1689" idx="0"/>
            <a:endCxn id="1690" idx="4"/>
          </p:cNvCxnSpPr>
          <p:nvPr/>
        </p:nvCxnSpPr>
        <p:spPr>
          <a:xfrm flipV="1">
            <a:off x="1588680" y="28634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5" name=""/>
          <p:cNvCxnSpPr>
            <a:stCxn id="1689" idx="6"/>
            <a:endCxn id="1692" idx="2"/>
          </p:cNvCxnSpPr>
          <p:nvPr/>
        </p:nvCxnSpPr>
        <p:spPr>
          <a:xfrm flipV="1">
            <a:off x="1827000" y="51397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90" idx="5"/>
            <a:endCxn id="1691" idx="1"/>
          </p:cNvCxnSpPr>
          <p:nvPr/>
        </p:nvCxnSpPr>
        <p:spPr>
          <a:xfrm>
            <a:off x="1750680" y="27972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7" name=""/>
          <p:cNvCxnSpPr>
            <a:stCxn id="1692" idx="0"/>
            <a:endCxn id="1693" idx="4"/>
          </p:cNvCxnSpPr>
          <p:nvPr/>
        </p:nvCxnSpPr>
        <p:spPr>
          <a:xfrm flipH="1" flipV="1">
            <a:off x="4255920" y="28634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8" name=""/>
          <p:cNvCxnSpPr>
            <a:stCxn id="1689" idx="7"/>
            <a:endCxn id="1691" idx="3"/>
          </p:cNvCxnSpPr>
          <p:nvPr/>
        </p:nvCxnSpPr>
        <p:spPr>
          <a:xfrm flipV="1">
            <a:off x="1750680" y="40161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9" name=""/>
          <p:cNvCxnSpPr>
            <a:stCxn id="1690" idx="6"/>
            <a:endCxn id="1693" idx="2"/>
          </p:cNvCxnSpPr>
          <p:nvPr/>
        </p:nvCxnSpPr>
        <p:spPr>
          <a:xfrm>
            <a:off x="1827000" y="26254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0" name=""/>
          <p:cNvCxnSpPr>
            <a:stCxn id="1692" idx="1"/>
            <a:endCxn id="1691" idx="5"/>
          </p:cNvCxnSpPr>
          <p:nvPr/>
        </p:nvCxnSpPr>
        <p:spPr>
          <a:xfrm flipH="1" flipV="1">
            <a:off x="3045960" y="40158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1" name=""/>
          <p:cNvCxnSpPr>
            <a:stCxn id="1693" idx="3"/>
            <a:endCxn id="1691" idx="7"/>
          </p:cNvCxnSpPr>
          <p:nvPr/>
        </p:nvCxnSpPr>
        <p:spPr>
          <a:xfrm flipH="1">
            <a:off x="3045960" y="27972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02" name=""/>
          <p:cNvSpPr/>
          <p:nvPr/>
        </p:nvSpPr>
        <p:spPr>
          <a:xfrm>
            <a:off x="1286280" y="3540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"/>
          <p:cNvSpPr/>
          <p:nvPr/>
        </p:nvSpPr>
        <p:spPr>
          <a:xfrm>
            <a:off x="2151360" y="437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"/>
          <p:cNvSpPr/>
          <p:nvPr/>
        </p:nvSpPr>
        <p:spPr>
          <a:xfrm>
            <a:off x="3294360" y="437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"/>
          <p:cNvSpPr/>
          <p:nvPr/>
        </p:nvSpPr>
        <p:spPr>
          <a:xfrm>
            <a:off x="2760840" y="5216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"/>
          <p:cNvSpPr/>
          <p:nvPr/>
        </p:nvSpPr>
        <p:spPr>
          <a:xfrm>
            <a:off x="4285080" y="361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"/>
          <p:cNvSpPr/>
          <p:nvPr/>
        </p:nvSpPr>
        <p:spPr>
          <a:xfrm>
            <a:off x="3267360" y="285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"/>
          <p:cNvSpPr/>
          <p:nvPr/>
        </p:nvSpPr>
        <p:spPr>
          <a:xfrm>
            <a:off x="2200680" y="293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"/>
          <p:cNvSpPr/>
          <p:nvPr/>
        </p:nvSpPr>
        <p:spPr>
          <a:xfrm>
            <a:off x="283716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D9C-26DA-4B30-AF52-D8C6CA4CBC0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"/>
          <p:cNvSpPr/>
          <p:nvPr/>
        </p:nvSpPr>
        <p:spPr>
          <a:xfrm>
            <a:off x="837000" y="175248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"/>
          <p:cNvSpPr/>
          <p:nvPr/>
        </p:nvSpPr>
        <p:spPr>
          <a:xfrm>
            <a:off x="13874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"/>
          <p:cNvSpPr/>
          <p:nvPr/>
        </p:nvSpPr>
        <p:spPr>
          <a:xfrm>
            <a:off x="138744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"/>
          <p:cNvSpPr/>
          <p:nvPr/>
        </p:nvSpPr>
        <p:spPr>
          <a:xfrm>
            <a:off x="2682720" y="3844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"/>
          <p:cNvSpPr/>
          <p:nvPr/>
        </p:nvSpPr>
        <p:spPr>
          <a:xfrm>
            <a:off x="4130640" y="51404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"/>
          <p:cNvSpPr/>
          <p:nvPr/>
        </p:nvSpPr>
        <p:spPr>
          <a:xfrm>
            <a:off x="405432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19" name=""/>
          <p:cNvCxnSpPr>
            <a:stCxn id="1714" idx="0"/>
            <a:endCxn id="1715" idx="4"/>
          </p:cNvCxnSpPr>
          <p:nvPr/>
        </p:nvCxnSpPr>
        <p:spPr>
          <a:xfrm flipV="1">
            <a:off x="1615680" y="30920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0" name=""/>
          <p:cNvCxnSpPr>
            <a:stCxn id="1714" idx="6"/>
            <a:endCxn id="1717" idx="2"/>
          </p:cNvCxnSpPr>
          <p:nvPr/>
        </p:nvCxnSpPr>
        <p:spPr>
          <a:xfrm flipV="1">
            <a:off x="1854000" y="53683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1" name=""/>
          <p:cNvCxnSpPr>
            <a:stCxn id="1715" idx="5"/>
            <a:endCxn id="1716" idx="1"/>
          </p:cNvCxnSpPr>
          <p:nvPr/>
        </p:nvCxnSpPr>
        <p:spPr>
          <a:xfrm>
            <a:off x="1777680" y="30258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2" name=""/>
          <p:cNvCxnSpPr>
            <a:stCxn id="1717" idx="0"/>
            <a:endCxn id="1718" idx="4"/>
          </p:cNvCxnSpPr>
          <p:nvPr/>
        </p:nvCxnSpPr>
        <p:spPr>
          <a:xfrm flipH="1" flipV="1">
            <a:off x="4282920" y="30920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3" name=""/>
          <p:cNvCxnSpPr>
            <a:stCxn id="1714" idx="7"/>
            <a:endCxn id="1716" idx="3"/>
          </p:cNvCxnSpPr>
          <p:nvPr/>
        </p:nvCxnSpPr>
        <p:spPr>
          <a:xfrm flipV="1">
            <a:off x="1777680" y="42447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4" name=""/>
          <p:cNvCxnSpPr>
            <a:stCxn id="1715" idx="6"/>
            <a:endCxn id="1718" idx="2"/>
          </p:cNvCxnSpPr>
          <p:nvPr/>
        </p:nvCxnSpPr>
        <p:spPr>
          <a:xfrm>
            <a:off x="1854000" y="28540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5" name=""/>
          <p:cNvCxnSpPr>
            <a:stCxn id="1717" idx="1"/>
            <a:endCxn id="1716" idx="5"/>
          </p:cNvCxnSpPr>
          <p:nvPr/>
        </p:nvCxnSpPr>
        <p:spPr>
          <a:xfrm flipH="1" flipV="1">
            <a:off x="3072960" y="42444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6" name=""/>
          <p:cNvCxnSpPr>
            <a:stCxn id="1718" idx="3"/>
            <a:endCxn id="1716" idx="7"/>
          </p:cNvCxnSpPr>
          <p:nvPr/>
        </p:nvCxnSpPr>
        <p:spPr>
          <a:xfrm flipH="1">
            <a:off x="3072960" y="30258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27" name=""/>
          <p:cNvSpPr/>
          <p:nvPr/>
        </p:nvSpPr>
        <p:spPr>
          <a:xfrm>
            <a:off x="1313280" y="376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"/>
          <p:cNvSpPr/>
          <p:nvPr/>
        </p:nvSpPr>
        <p:spPr>
          <a:xfrm>
            <a:off x="217836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"/>
          <p:cNvSpPr/>
          <p:nvPr/>
        </p:nvSpPr>
        <p:spPr>
          <a:xfrm>
            <a:off x="332136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"/>
          <p:cNvSpPr/>
          <p:nvPr/>
        </p:nvSpPr>
        <p:spPr>
          <a:xfrm>
            <a:off x="278784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"/>
          <p:cNvSpPr/>
          <p:nvPr/>
        </p:nvSpPr>
        <p:spPr>
          <a:xfrm>
            <a:off x="43120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"/>
          <p:cNvSpPr/>
          <p:nvPr/>
        </p:nvSpPr>
        <p:spPr>
          <a:xfrm>
            <a:off x="3294360" y="30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"/>
          <p:cNvSpPr/>
          <p:nvPr/>
        </p:nvSpPr>
        <p:spPr>
          <a:xfrm>
            <a:off x="222768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"/>
          <p:cNvSpPr/>
          <p:nvPr/>
        </p:nvSpPr>
        <p:spPr>
          <a:xfrm>
            <a:off x="2864160" y="239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190-E7C7-4804-A181-64DD4D5456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/>
          <p:nvPr/>
        </p:nvSpPr>
        <p:spPr>
          <a:xfrm>
            <a:off x="76104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"/>
          <p:cNvSpPr/>
          <p:nvPr/>
        </p:nvSpPr>
        <p:spPr>
          <a:xfrm>
            <a:off x="131112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"/>
          <p:cNvSpPr/>
          <p:nvPr/>
        </p:nvSpPr>
        <p:spPr>
          <a:xfrm>
            <a:off x="13111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"/>
          <p:cNvSpPr/>
          <p:nvPr/>
        </p:nvSpPr>
        <p:spPr>
          <a:xfrm>
            <a:off x="260676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"/>
          <p:cNvSpPr/>
          <p:nvPr/>
        </p:nvSpPr>
        <p:spPr>
          <a:xfrm>
            <a:off x="405432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"/>
          <p:cNvSpPr/>
          <p:nvPr/>
        </p:nvSpPr>
        <p:spPr>
          <a:xfrm>
            <a:off x="397836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44" name=""/>
          <p:cNvCxnSpPr>
            <a:stCxn id="1739" idx="0"/>
            <a:endCxn id="1740" idx="4"/>
          </p:cNvCxnSpPr>
          <p:nvPr/>
        </p:nvCxnSpPr>
        <p:spPr>
          <a:xfrm flipV="1">
            <a:off x="153936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5" name=""/>
          <p:cNvCxnSpPr>
            <a:stCxn id="1739" idx="6"/>
            <a:endCxn id="1742" idx="2"/>
          </p:cNvCxnSpPr>
          <p:nvPr/>
        </p:nvCxnSpPr>
        <p:spPr>
          <a:xfrm flipV="1">
            <a:off x="177768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6" name=""/>
          <p:cNvCxnSpPr>
            <a:stCxn id="1740" idx="5"/>
            <a:endCxn id="1741" idx="1"/>
          </p:cNvCxnSpPr>
          <p:nvPr/>
        </p:nvCxnSpPr>
        <p:spPr>
          <a:xfrm>
            <a:off x="170136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7" name=""/>
          <p:cNvCxnSpPr>
            <a:stCxn id="1742" idx="0"/>
            <a:endCxn id="1743" idx="4"/>
          </p:cNvCxnSpPr>
          <p:nvPr/>
        </p:nvCxnSpPr>
        <p:spPr>
          <a:xfrm flipH="1" flipV="1">
            <a:off x="420624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8" name=""/>
          <p:cNvCxnSpPr>
            <a:stCxn id="1739" idx="7"/>
            <a:endCxn id="1741" idx="3"/>
          </p:cNvCxnSpPr>
          <p:nvPr/>
        </p:nvCxnSpPr>
        <p:spPr>
          <a:xfrm flipV="1">
            <a:off x="170136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9" name=""/>
          <p:cNvCxnSpPr>
            <a:stCxn id="1740" idx="6"/>
            <a:endCxn id="1743" idx="2"/>
          </p:cNvCxnSpPr>
          <p:nvPr/>
        </p:nvCxnSpPr>
        <p:spPr>
          <a:xfrm>
            <a:off x="177768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50" name=""/>
          <p:cNvCxnSpPr>
            <a:stCxn id="1742" idx="1"/>
            <a:endCxn id="1741" idx="5"/>
          </p:cNvCxnSpPr>
          <p:nvPr/>
        </p:nvCxnSpPr>
        <p:spPr>
          <a:xfrm flipH="1" flipV="1">
            <a:off x="299700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51" name=""/>
          <p:cNvCxnSpPr>
            <a:stCxn id="1743" idx="3"/>
            <a:endCxn id="1741" idx="7"/>
          </p:cNvCxnSpPr>
          <p:nvPr/>
        </p:nvCxnSpPr>
        <p:spPr>
          <a:xfrm flipH="1">
            <a:off x="299700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52" name=""/>
          <p:cNvSpPr/>
          <p:nvPr/>
        </p:nvSpPr>
        <p:spPr>
          <a:xfrm>
            <a:off x="123696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"/>
          <p:cNvSpPr/>
          <p:nvPr/>
        </p:nvSpPr>
        <p:spPr>
          <a:xfrm>
            <a:off x="210204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"/>
          <p:cNvSpPr/>
          <p:nvPr/>
        </p:nvSpPr>
        <p:spPr>
          <a:xfrm>
            <a:off x="324504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"/>
          <p:cNvSpPr/>
          <p:nvPr/>
        </p:nvSpPr>
        <p:spPr>
          <a:xfrm>
            <a:off x="271188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"/>
          <p:cNvSpPr/>
          <p:nvPr/>
        </p:nvSpPr>
        <p:spPr>
          <a:xfrm>
            <a:off x="423576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"/>
          <p:cNvSpPr/>
          <p:nvPr/>
        </p:nvSpPr>
        <p:spPr>
          <a:xfrm>
            <a:off x="321804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"/>
          <p:cNvSpPr/>
          <p:nvPr/>
        </p:nvSpPr>
        <p:spPr>
          <a:xfrm>
            <a:off x="215136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"/>
          <p:cNvSpPr/>
          <p:nvPr/>
        </p:nvSpPr>
        <p:spPr>
          <a:xfrm>
            <a:off x="278784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F17-2637-456F-A275-7E00DA593A7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83700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"/>
          <p:cNvSpPr/>
          <p:nvPr/>
        </p:nvSpPr>
        <p:spPr>
          <a:xfrm>
            <a:off x="138744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"/>
          <p:cNvSpPr/>
          <p:nvPr/>
        </p:nvSpPr>
        <p:spPr>
          <a:xfrm>
            <a:off x="138744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"/>
          <p:cNvSpPr/>
          <p:nvPr/>
        </p:nvSpPr>
        <p:spPr>
          <a:xfrm>
            <a:off x="268272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"/>
          <p:cNvSpPr/>
          <p:nvPr/>
        </p:nvSpPr>
        <p:spPr>
          <a:xfrm>
            <a:off x="41306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40543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69" name=""/>
          <p:cNvCxnSpPr>
            <a:stCxn id="1764" idx="0"/>
            <a:endCxn id="1765" idx="4"/>
          </p:cNvCxnSpPr>
          <p:nvPr/>
        </p:nvCxnSpPr>
        <p:spPr>
          <a:xfrm flipV="1">
            <a:off x="161568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4" idx="6"/>
            <a:endCxn id="1767" idx="2"/>
          </p:cNvCxnSpPr>
          <p:nvPr/>
        </p:nvCxnSpPr>
        <p:spPr>
          <a:xfrm flipV="1">
            <a:off x="185400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5" idx="5"/>
            <a:endCxn id="1766" idx="1"/>
          </p:cNvCxnSpPr>
          <p:nvPr/>
        </p:nvCxnSpPr>
        <p:spPr>
          <a:xfrm>
            <a:off x="177768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7" idx="0"/>
            <a:endCxn id="1768" idx="4"/>
          </p:cNvCxnSpPr>
          <p:nvPr/>
        </p:nvCxnSpPr>
        <p:spPr>
          <a:xfrm flipH="1" flipV="1">
            <a:off x="428292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3" name=""/>
          <p:cNvCxnSpPr>
            <a:stCxn id="1764" idx="7"/>
            <a:endCxn id="1766" idx="3"/>
          </p:cNvCxnSpPr>
          <p:nvPr/>
        </p:nvCxnSpPr>
        <p:spPr>
          <a:xfrm flipV="1">
            <a:off x="177768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4" name=""/>
          <p:cNvCxnSpPr>
            <a:stCxn id="1765" idx="6"/>
            <a:endCxn id="1768" idx="2"/>
          </p:cNvCxnSpPr>
          <p:nvPr/>
        </p:nvCxnSpPr>
        <p:spPr>
          <a:xfrm>
            <a:off x="185400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5" name=""/>
          <p:cNvCxnSpPr>
            <a:stCxn id="1767" idx="1"/>
            <a:endCxn id="1766" idx="5"/>
          </p:cNvCxnSpPr>
          <p:nvPr/>
        </p:nvCxnSpPr>
        <p:spPr>
          <a:xfrm flipH="1" flipV="1">
            <a:off x="307296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68" idx="3"/>
            <a:endCxn id="1766" idx="7"/>
          </p:cNvCxnSpPr>
          <p:nvPr/>
        </p:nvCxnSpPr>
        <p:spPr>
          <a:xfrm flipH="1">
            <a:off x="307296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77" name=""/>
          <p:cNvSpPr/>
          <p:nvPr/>
        </p:nvSpPr>
        <p:spPr>
          <a:xfrm>
            <a:off x="13132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"/>
          <p:cNvSpPr/>
          <p:nvPr/>
        </p:nvSpPr>
        <p:spPr>
          <a:xfrm>
            <a:off x="2178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"/>
          <p:cNvSpPr/>
          <p:nvPr/>
        </p:nvSpPr>
        <p:spPr>
          <a:xfrm>
            <a:off x="3321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"/>
          <p:cNvSpPr/>
          <p:nvPr/>
        </p:nvSpPr>
        <p:spPr>
          <a:xfrm>
            <a:off x="278784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"/>
          <p:cNvSpPr/>
          <p:nvPr/>
        </p:nvSpPr>
        <p:spPr>
          <a:xfrm>
            <a:off x="431208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"/>
          <p:cNvSpPr/>
          <p:nvPr/>
        </p:nvSpPr>
        <p:spPr>
          <a:xfrm>
            <a:off x="3294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"/>
          <p:cNvSpPr/>
          <p:nvPr/>
        </p:nvSpPr>
        <p:spPr>
          <a:xfrm>
            <a:off x="222768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"/>
          <p:cNvSpPr/>
          <p:nvPr/>
        </p:nvSpPr>
        <p:spPr>
          <a:xfrm>
            <a:off x="286416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DE1-BA4A-41BD-87FF-EEF2451F13B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83700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"/>
          <p:cNvSpPr/>
          <p:nvPr/>
        </p:nvSpPr>
        <p:spPr>
          <a:xfrm>
            <a:off x="138744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"/>
          <p:cNvSpPr/>
          <p:nvPr/>
        </p:nvSpPr>
        <p:spPr>
          <a:xfrm>
            <a:off x="138744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"/>
          <p:cNvSpPr/>
          <p:nvPr/>
        </p:nvSpPr>
        <p:spPr>
          <a:xfrm>
            <a:off x="268272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"/>
          <p:cNvSpPr/>
          <p:nvPr/>
        </p:nvSpPr>
        <p:spPr>
          <a:xfrm>
            <a:off x="41306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"/>
          <p:cNvSpPr/>
          <p:nvPr/>
        </p:nvSpPr>
        <p:spPr>
          <a:xfrm>
            <a:off x="40543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94" name=""/>
          <p:cNvCxnSpPr>
            <a:stCxn id="1789" idx="0"/>
            <a:endCxn id="1790" idx="4"/>
          </p:cNvCxnSpPr>
          <p:nvPr/>
        </p:nvCxnSpPr>
        <p:spPr>
          <a:xfrm flipV="1">
            <a:off x="161568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5" name=""/>
          <p:cNvCxnSpPr>
            <a:stCxn id="1789" idx="6"/>
            <a:endCxn id="1792" idx="2"/>
          </p:cNvCxnSpPr>
          <p:nvPr/>
        </p:nvCxnSpPr>
        <p:spPr>
          <a:xfrm flipV="1">
            <a:off x="185400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0" idx="5"/>
            <a:endCxn id="1791" idx="1"/>
          </p:cNvCxnSpPr>
          <p:nvPr/>
        </p:nvCxnSpPr>
        <p:spPr>
          <a:xfrm>
            <a:off x="177768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2" idx="0"/>
            <a:endCxn id="1793" idx="4"/>
          </p:cNvCxnSpPr>
          <p:nvPr/>
        </p:nvCxnSpPr>
        <p:spPr>
          <a:xfrm flipH="1" flipV="1">
            <a:off x="428292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89" idx="7"/>
            <a:endCxn id="1791" idx="3"/>
          </p:cNvCxnSpPr>
          <p:nvPr/>
        </p:nvCxnSpPr>
        <p:spPr>
          <a:xfrm flipV="1">
            <a:off x="177768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9" name=""/>
          <p:cNvCxnSpPr>
            <a:stCxn id="1790" idx="6"/>
            <a:endCxn id="1793" idx="2"/>
          </p:cNvCxnSpPr>
          <p:nvPr/>
        </p:nvCxnSpPr>
        <p:spPr>
          <a:xfrm>
            <a:off x="185400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00" name=""/>
          <p:cNvCxnSpPr>
            <a:stCxn id="1792" idx="1"/>
            <a:endCxn id="1791" idx="5"/>
          </p:cNvCxnSpPr>
          <p:nvPr/>
        </p:nvCxnSpPr>
        <p:spPr>
          <a:xfrm flipH="1" flipV="1">
            <a:off x="307296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01" name=""/>
          <p:cNvCxnSpPr>
            <a:stCxn id="1793" idx="3"/>
            <a:endCxn id="1791" idx="7"/>
          </p:cNvCxnSpPr>
          <p:nvPr/>
        </p:nvCxnSpPr>
        <p:spPr>
          <a:xfrm flipH="1">
            <a:off x="307296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02" name=""/>
          <p:cNvSpPr/>
          <p:nvPr/>
        </p:nvSpPr>
        <p:spPr>
          <a:xfrm>
            <a:off x="13132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"/>
          <p:cNvSpPr/>
          <p:nvPr/>
        </p:nvSpPr>
        <p:spPr>
          <a:xfrm>
            <a:off x="2178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"/>
          <p:cNvSpPr/>
          <p:nvPr/>
        </p:nvSpPr>
        <p:spPr>
          <a:xfrm>
            <a:off x="3321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"/>
          <p:cNvSpPr/>
          <p:nvPr/>
        </p:nvSpPr>
        <p:spPr>
          <a:xfrm>
            <a:off x="278784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"/>
          <p:cNvSpPr/>
          <p:nvPr/>
        </p:nvSpPr>
        <p:spPr>
          <a:xfrm>
            <a:off x="431208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"/>
          <p:cNvSpPr/>
          <p:nvPr/>
        </p:nvSpPr>
        <p:spPr>
          <a:xfrm>
            <a:off x="3294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"/>
          <p:cNvSpPr/>
          <p:nvPr/>
        </p:nvSpPr>
        <p:spPr>
          <a:xfrm>
            <a:off x="222768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9" name=""/>
          <p:cNvSpPr/>
          <p:nvPr/>
        </p:nvSpPr>
        <p:spPr>
          <a:xfrm>
            <a:off x="286416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189-2DD1-441E-976D-89BE7BC0C9E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2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33520" y="1905120"/>
            <a:ext cx="2089080" cy="1272240"/>
            <a:chOff x="533520" y="1905120"/>
            <a:chExt cx="2089080" cy="1272240"/>
          </a:xfrm>
        </p:grpSpPr>
        <p:sp>
          <p:nvSpPr>
            <p:cNvPr id="338" name=""/>
            <p:cNvSpPr/>
            <p:nvPr/>
          </p:nvSpPr>
          <p:spPr>
            <a:xfrm>
              <a:off x="2440080" y="2043000"/>
              <a:ext cx="36360" cy="17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40080" y="2854440"/>
              <a:ext cx="3636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40080" y="2060640"/>
              <a:ext cx="36360" cy="79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38200" y="288108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23"/>
                  </a:moveTo>
                  <a:lnTo>
                    <a:pt x="6" y="29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54120" y="259884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2" y="23"/>
                  </a:moveTo>
                  <a:lnTo>
                    <a:pt x="0" y="17"/>
                  </a:lnTo>
                  <a:lnTo>
                    <a:pt x="6" y="0"/>
                  </a:lnTo>
                  <a:lnTo>
                    <a:pt x="18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73200" y="2598840"/>
              <a:ext cx="774720" cy="318960"/>
            </a:xfrm>
            <a:custGeom>
              <a:avLst/>
              <a:gdLst/>
              <a:ahLst/>
              <a:rect l="l" t="t" r="r" b="b"/>
              <a:pathLst>
                <a:path w="488" h="201">
                  <a:moveTo>
                    <a:pt x="482" y="201"/>
                  </a:moveTo>
                  <a:lnTo>
                    <a:pt x="488" y="178"/>
                  </a:lnTo>
                  <a:lnTo>
                    <a:pt x="6" y="0"/>
                  </a:lnTo>
                  <a:lnTo>
                    <a:pt x="0" y="23"/>
                  </a:lnTo>
                  <a:lnTo>
                    <a:pt x="482" y="2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63480" y="2598840"/>
              <a:ext cx="36720" cy="457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3"/>
                  </a:moveTo>
                  <a:lnTo>
                    <a:pt x="12" y="29"/>
                  </a:lnTo>
                  <a:lnTo>
                    <a:pt x="23" y="12"/>
                  </a:lnTo>
                  <a:lnTo>
                    <a:pt x="1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9400" y="214308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1" y="29"/>
                  </a:moveTo>
                  <a:lnTo>
                    <a:pt x="0" y="23"/>
                  </a:lnTo>
                  <a:lnTo>
                    <a:pt x="17" y="0"/>
                  </a:lnTo>
                  <a:lnTo>
                    <a:pt x="23" y="6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7040" y="2152440"/>
              <a:ext cx="785520" cy="482760"/>
            </a:xfrm>
            <a:custGeom>
              <a:avLst/>
              <a:gdLst/>
              <a:ahLst/>
              <a:rect l="l" t="t" r="r" b="b"/>
              <a:pathLst>
                <a:path w="495" h="304">
                  <a:moveTo>
                    <a:pt x="483" y="304"/>
                  </a:moveTo>
                  <a:lnTo>
                    <a:pt x="495" y="28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483" y="3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63480" y="25988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23" y="1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040" y="29448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7" y="23"/>
                  </a:moveTo>
                  <a:lnTo>
                    <a:pt x="6" y="29"/>
                  </a:lnTo>
                  <a:lnTo>
                    <a:pt x="0" y="6"/>
                  </a:lnTo>
                  <a:lnTo>
                    <a:pt x="6" y="0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5400" y="2598840"/>
              <a:ext cx="857160" cy="382320"/>
            </a:xfrm>
            <a:custGeom>
              <a:avLst/>
              <a:gdLst/>
              <a:ahLst/>
              <a:rect l="l" t="t" r="r" b="b"/>
              <a:pathLst>
                <a:path w="540" h="241">
                  <a:moveTo>
                    <a:pt x="540" y="23"/>
                  </a:moveTo>
                  <a:lnTo>
                    <a:pt x="528" y="0"/>
                  </a:lnTo>
                  <a:lnTo>
                    <a:pt x="0" y="218"/>
                  </a:lnTo>
                  <a:lnTo>
                    <a:pt x="11" y="241"/>
                  </a:lnTo>
                  <a:lnTo>
                    <a:pt x="54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960" y="2197080"/>
              <a:ext cx="36360" cy="1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9960" y="2854440"/>
              <a:ext cx="3636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9960" y="2216160"/>
              <a:ext cx="36360" cy="63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960" y="2043000"/>
              <a:ext cx="1908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57360" y="2043000"/>
              <a:ext cx="1908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9040" y="2043000"/>
              <a:ext cx="17683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9960" y="2990880"/>
              <a:ext cx="19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57360" y="2990880"/>
              <a:ext cx="19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9040" y="2990880"/>
              <a:ext cx="17683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3520" y="1905120"/>
              <a:ext cx="318960" cy="320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400" y="1909800"/>
              <a:ext cx="312840" cy="311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93920" y="2854440"/>
              <a:ext cx="328680" cy="31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97160" y="2857320"/>
              <a:ext cx="320760" cy="3128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17680" y="2462040"/>
              <a:ext cx="31896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20920" y="2465280"/>
              <a:ext cx="312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3920" y="1905120"/>
              <a:ext cx="328680" cy="320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97160" y="1909800"/>
              <a:ext cx="320760" cy="311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2854440"/>
              <a:ext cx="318960" cy="31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6400" y="2857320"/>
              <a:ext cx="312840" cy="3128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3240" y="1931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94000" y="1960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17040" y="2489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5960" y="2917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03360" y="289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703440" y="5981760"/>
            <a:ext cx="79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1756440" y="4800600"/>
            <a:ext cx="406368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c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g(v)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648320" y="1828800"/>
            <a:ext cx="2173320" cy="2324160"/>
            <a:chOff x="4648320" y="1828800"/>
            <a:chExt cx="2173320" cy="2324160"/>
          </a:xfrm>
        </p:grpSpPr>
        <p:sp>
          <p:nvSpPr>
            <p:cNvPr id="377" name=""/>
            <p:cNvSpPr/>
            <p:nvPr/>
          </p:nvSpPr>
          <p:spPr>
            <a:xfrm>
              <a:off x="5280480" y="3760560"/>
              <a:ext cx="1541160" cy="3924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2200" y="3241440"/>
              <a:ext cx="1541520" cy="3924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72200" y="2768400"/>
              <a:ext cx="1541520" cy="3906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72200" y="2320920"/>
              <a:ext cx="986040" cy="39204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2200" y="1828800"/>
              <a:ext cx="1541520" cy="39204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4080" y="200664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13800" y="19796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2"/>
                  </a:moveTo>
                  <a:lnTo>
                    <a:pt x="0" y="0"/>
                  </a:lnTo>
                  <a:lnTo>
                    <a:pt x="86" y="22"/>
                  </a:lnTo>
                  <a:lnTo>
                    <a:pt x="0" y="5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13800" y="19796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2"/>
                  </a:moveTo>
                  <a:lnTo>
                    <a:pt x="0" y="0"/>
                  </a:lnTo>
                  <a:lnTo>
                    <a:pt x="86" y="22"/>
                  </a:lnTo>
                  <a:lnTo>
                    <a:pt x="0" y="5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21560" y="2006640"/>
              <a:ext cx="93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04080" y="2006640"/>
              <a:ext cx="972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30920" y="2006640"/>
              <a:ext cx="1731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4080" y="249876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13800" y="24717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3800" y="24717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1560" y="2498760"/>
              <a:ext cx="93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04080" y="2498760"/>
              <a:ext cx="972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30920" y="2498760"/>
              <a:ext cx="1731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04080" y="295416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13800" y="292716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13800" y="292716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21560" y="2954160"/>
              <a:ext cx="93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04080" y="295416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0920" y="295416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4080" y="393048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13800" y="390348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13800" y="390348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21560" y="3930480"/>
              <a:ext cx="93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04080" y="393048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30920" y="393048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69120" y="3940200"/>
              <a:ext cx="113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69120" y="3438360"/>
              <a:ext cx="113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69120" y="2963880"/>
              <a:ext cx="113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69120" y="2508120"/>
              <a:ext cx="61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51920" y="2014560"/>
              <a:ext cx="103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4528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9476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2020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45280" y="23940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20200" y="23940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4528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9476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2020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5500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0412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2956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4528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9476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2020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22680" y="1914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22680" y="38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97240" y="1887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97240" y="38116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0660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53080" y="1914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2960" y="23796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240" y="23796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2960" y="28353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87880" y="28623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71800" y="28353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2232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944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3080" y="38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8320" y="184140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560" y="1846080"/>
              <a:ext cx="303480" cy="3016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48320" y="230652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51560" y="2311200"/>
              <a:ext cx="303480" cy="3016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48320" y="2790720"/>
              <a:ext cx="30960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51560" y="2793960"/>
              <a:ext cx="303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48320" y="3265560"/>
              <a:ext cx="30960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51560" y="3268440"/>
              <a:ext cx="303480" cy="3034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8320" y="373860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51560" y="3743280"/>
              <a:ext cx="303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04080" y="342900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21720" y="340200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23"/>
                  </a:moveTo>
                  <a:lnTo>
                    <a:pt x="0" y="0"/>
                  </a:lnTo>
                  <a:lnTo>
                    <a:pt x="87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21720" y="340200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23"/>
                  </a:moveTo>
                  <a:lnTo>
                    <a:pt x="0" y="0"/>
                  </a:lnTo>
                  <a:lnTo>
                    <a:pt x="87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30920" y="342900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40640" y="342900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38680" y="2346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71440" y="18669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58840" y="280332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600" y="3298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8320" y="37702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D3D-F70B-4ADF-85D6-956BB9E135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761040" y="175248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"/>
          <p:cNvSpPr/>
          <p:nvPr/>
        </p:nvSpPr>
        <p:spPr>
          <a:xfrm>
            <a:off x="131112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"/>
          <p:cNvSpPr/>
          <p:nvPr/>
        </p:nvSpPr>
        <p:spPr>
          <a:xfrm>
            <a:off x="131112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"/>
          <p:cNvSpPr/>
          <p:nvPr/>
        </p:nvSpPr>
        <p:spPr>
          <a:xfrm>
            <a:off x="2606760" y="3844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"/>
          <p:cNvSpPr/>
          <p:nvPr/>
        </p:nvSpPr>
        <p:spPr>
          <a:xfrm>
            <a:off x="4054320" y="51404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"/>
          <p:cNvSpPr/>
          <p:nvPr/>
        </p:nvSpPr>
        <p:spPr>
          <a:xfrm>
            <a:off x="397836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19" name=""/>
          <p:cNvCxnSpPr>
            <a:stCxn id="1814" idx="0"/>
            <a:endCxn id="1815" idx="4"/>
          </p:cNvCxnSpPr>
          <p:nvPr/>
        </p:nvCxnSpPr>
        <p:spPr>
          <a:xfrm flipV="1">
            <a:off x="1539360" y="30920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0" name=""/>
          <p:cNvCxnSpPr>
            <a:stCxn id="1814" idx="6"/>
            <a:endCxn id="1817" idx="2"/>
          </p:cNvCxnSpPr>
          <p:nvPr/>
        </p:nvCxnSpPr>
        <p:spPr>
          <a:xfrm flipV="1">
            <a:off x="1777680" y="53683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1" name=""/>
          <p:cNvCxnSpPr>
            <a:stCxn id="1815" idx="5"/>
            <a:endCxn id="1816" idx="1"/>
          </p:cNvCxnSpPr>
          <p:nvPr/>
        </p:nvCxnSpPr>
        <p:spPr>
          <a:xfrm>
            <a:off x="1701360" y="30258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7" idx="0"/>
            <a:endCxn id="1818" idx="4"/>
          </p:cNvCxnSpPr>
          <p:nvPr/>
        </p:nvCxnSpPr>
        <p:spPr>
          <a:xfrm flipH="1" flipV="1">
            <a:off x="4206240" y="30920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4" idx="7"/>
            <a:endCxn id="1816" idx="3"/>
          </p:cNvCxnSpPr>
          <p:nvPr/>
        </p:nvCxnSpPr>
        <p:spPr>
          <a:xfrm flipV="1">
            <a:off x="1701360" y="42447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15" idx="6"/>
            <a:endCxn id="1818" idx="2"/>
          </p:cNvCxnSpPr>
          <p:nvPr/>
        </p:nvCxnSpPr>
        <p:spPr>
          <a:xfrm>
            <a:off x="1777680" y="28540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17" idx="1"/>
            <a:endCxn id="1816" idx="5"/>
          </p:cNvCxnSpPr>
          <p:nvPr/>
        </p:nvCxnSpPr>
        <p:spPr>
          <a:xfrm flipH="1" flipV="1">
            <a:off x="2997000" y="42444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3"/>
            <a:endCxn id="1816" idx="7"/>
          </p:cNvCxnSpPr>
          <p:nvPr/>
        </p:nvCxnSpPr>
        <p:spPr>
          <a:xfrm flipH="1">
            <a:off x="2997000" y="30258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7" name=""/>
          <p:cNvSpPr/>
          <p:nvPr/>
        </p:nvSpPr>
        <p:spPr>
          <a:xfrm>
            <a:off x="1236960" y="376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"/>
          <p:cNvSpPr/>
          <p:nvPr/>
        </p:nvSpPr>
        <p:spPr>
          <a:xfrm>
            <a:off x="210204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"/>
          <p:cNvSpPr/>
          <p:nvPr/>
        </p:nvSpPr>
        <p:spPr>
          <a:xfrm>
            <a:off x="324504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"/>
          <p:cNvSpPr/>
          <p:nvPr/>
        </p:nvSpPr>
        <p:spPr>
          <a:xfrm>
            <a:off x="271188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"/>
          <p:cNvSpPr/>
          <p:nvPr/>
        </p:nvSpPr>
        <p:spPr>
          <a:xfrm>
            <a:off x="423576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"/>
          <p:cNvSpPr/>
          <p:nvPr/>
        </p:nvSpPr>
        <p:spPr>
          <a:xfrm>
            <a:off x="3218040" y="30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"/>
          <p:cNvSpPr/>
          <p:nvPr/>
        </p:nvSpPr>
        <p:spPr>
          <a:xfrm>
            <a:off x="2151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"/>
          <p:cNvSpPr/>
          <p:nvPr/>
        </p:nvSpPr>
        <p:spPr>
          <a:xfrm>
            <a:off x="2787840" y="239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15D-5060-4E09-B618-F3ABDBF2E69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1447920" y="1828800"/>
            <a:ext cx="655308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gorit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P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{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vorovi s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…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 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tex pairs (i,j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lse 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n edge 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ight of ed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in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"/>
          <p:cNvSpPr/>
          <p:nvPr/>
        </p:nvSpPr>
        <p:spPr>
          <a:xfrm>
            <a:off x="6858720" y="2590920"/>
            <a:ext cx="116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+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"/>
          <p:cNvSpPr/>
          <p:nvPr/>
        </p:nvSpPr>
        <p:spPr>
          <a:xfrm>
            <a:off x="7094520" y="4343400"/>
            <a:ext cx="8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B11-0169-4097-BD9F-D789E991336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inimalno drvo razapinjan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inimum spanning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CB94-215C-4797-9952-6469F48EA93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dati gra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V,E)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rediti dr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V,E’), E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ko da je suma težina grana drveta T minim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 naziva minimalnim drvetom razapinjanja grafa G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mal spanning t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003-CD80-42AA-8B65-CAFEF8010F2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56" name=""/>
          <p:cNvCxnSpPr>
            <a:stCxn id="1850" idx="6"/>
            <a:endCxn id="185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7" name=""/>
          <p:cNvCxnSpPr>
            <a:stCxn id="1853" idx="6"/>
            <a:endCxn id="184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8" name=""/>
          <p:cNvCxnSpPr>
            <a:stCxn id="1849" idx="6"/>
            <a:endCxn id="185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9" name=""/>
          <p:cNvCxnSpPr>
            <a:stCxn id="1852" idx="6"/>
            <a:endCxn id="185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0" name=""/>
          <p:cNvCxnSpPr>
            <a:stCxn id="1850" idx="4"/>
            <a:endCxn id="184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1" name=""/>
          <p:cNvCxnSpPr>
            <a:stCxn id="1848" idx="4"/>
            <a:endCxn id="185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49" idx="7"/>
            <a:endCxn id="185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4" idx="7"/>
            <a:endCxn id="185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53" idx="5"/>
            <a:endCxn id="185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54" idx="5"/>
            <a:endCxn id="185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1" idx="7"/>
            <a:endCxn id="185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7" name=""/>
          <p:cNvCxnSpPr>
            <a:stCxn id="1851" idx="5"/>
            <a:endCxn id="184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55" idx="7"/>
            <a:endCxn id="184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48" idx="5"/>
            <a:endCxn id="184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947-A0AB-4C5E-9F7B-27ED7E207BF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94" name=""/>
          <p:cNvCxnSpPr>
            <a:stCxn id="1888" idx="6"/>
            <a:endCxn id="189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91" idx="6"/>
            <a:endCxn id="188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87" idx="6"/>
            <a:endCxn id="189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7" name=""/>
          <p:cNvCxnSpPr>
            <a:stCxn id="1890" idx="6"/>
            <a:endCxn id="189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8" name=""/>
          <p:cNvCxnSpPr>
            <a:stCxn id="1888" idx="4"/>
            <a:endCxn id="188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9" name=""/>
          <p:cNvCxnSpPr>
            <a:stCxn id="1886" idx="4"/>
            <a:endCxn id="189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0" name=""/>
          <p:cNvCxnSpPr>
            <a:stCxn id="1887" idx="7"/>
            <a:endCxn id="189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1" name=""/>
          <p:cNvCxnSpPr>
            <a:stCxn id="1892" idx="7"/>
            <a:endCxn id="189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2" name=""/>
          <p:cNvCxnSpPr>
            <a:stCxn id="1891" idx="5"/>
            <a:endCxn id="189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2" idx="5"/>
            <a:endCxn id="189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889" idx="7"/>
            <a:endCxn id="188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5" name=""/>
          <p:cNvCxnSpPr>
            <a:stCxn id="1889" idx="5"/>
            <a:endCxn id="188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6" name=""/>
          <p:cNvCxnSpPr>
            <a:stCxn id="1893" idx="7"/>
            <a:endCxn id="188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7" name=""/>
          <p:cNvCxnSpPr>
            <a:stCxn id="1886" idx="5"/>
            <a:endCxn id="188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0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E0C-69E3-4B1C-B920-002E57F4FC6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Examp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2" name=""/>
          <p:cNvCxnSpPr>
            <a:stCxn id="1926" idx="6"/>
            <a:endCxn id="192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29" idx="6"/>
            <a:endCxn id="192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4" name=""/>
          <p:cNvCxnSpPr>
            <a:stCxn id="1925" idx="6"/>
            <a:endCxn id="192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5" name=""/>
          <p:cNvCxnSpPr>
            <a:stCxn id="1928" idx="6"/>
            <a:endCxn id="193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6" name=""/>
          <p:cNvCxnSpPr>
            <a:stCxn id="1926" idx="4"/>
            <a:endCxn id="192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7" name=""/>
          <p:cNvCxnSpPr>
            <a:stCxn id="1924" idx="4"/>
            <a:endCxn id="193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8" name=""/>
          <p:cNvCxnSpPr>
            <a:stCxn id="1925" idx="7"/>
            <a:endCxn id="193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9" name=""/>
          <p:cNvCxnSpPr>
            <a:stCxn id="1930" idx="7"/>
            <a:endCxn id="192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29" idx="5"/>
            <a:endCxn id="193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0" idx="5"/>
            <a:endCxn id="192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27" idx="7"/>
            <a:endCxn id="192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27" idx="5"/>
            <a:endCxn id="192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4" name=""/>
          <p:cNvCxnSpPr>
            <a:stCxn id="1931" idx="7"/>
            <a:endCxn id="192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24" idx="5"/>
            <a:endCxn id="192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4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50E-223E-4C51-AEE1-0CC334085086}" type="slidenum">
              <a:t>56</a:t>
            </a:fld>
          </a:p>
        </p:txBody>
      </p:sp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Examp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0" name=""/>
          <p:cNvCxnSpPr>
            <a:stCxn id="1964" idx="6"/>
            <a:endCxn id="196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7" idx="6"/>
            <a:endCxn id="196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2" name=""/>
          <p:cNvCxnSpPr>
            <a:stCxn id="1963" idx="6"/>
            <a:endCxn id="196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3" name=""/>
          <p:cNvCxnSpPr>
            <a:stCxn id="1966" idx="6"/>
            <a:endCxn id="196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4" name=""/>
          <p:cNvCxnSpPr>
            <a:stCxn id="1964" idx="4"/>
            <a:endCxn id="196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5" name=""/>
          <p:cNvCxnSpPr>
            <a:stCxn id="1962" idx="4"/>
            <a:endCxn id="196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6" name=""/>
          <p:cNvCxnSpPr>
            <a:stCxn id="1963" idx="7"/>
            <a:endCxn id="196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7" name=""/>
          <p:cNvCxnSpPr>
            <a:stCxn id="1968" idx="7"/>
            <a:endCxn id="196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67" idx="5"/>
            <a:endCxn id="196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8" idx="5"/>
            <a:endCxn id="196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0" name=""/>
          <p:cNvCxnSpPr>
            <a:stCxn id="1965" idx="7"/>
            <a:endCxn id="196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81" name=""/>
          <p:cNvCxnSpPr>
            <a:stCxn id="1965" idx="5"/>
            <a:endCxn id="196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2" name=""/>
          <p:cNvCxnSpPr>
            <a:stCxn id="1969" idx="7"/>
            <a:endCxn id="196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62" idx="5"/>
            <a:endCxn id="196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48C-1FB6-4B6D-803D-C7F3B2AD1BA6}" type="slidenum">
              <a:t>57</a:t>
            </a:fld>
          </a:p>
        </p:txBody>
      </p: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v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90480" y="1827360"/>
            <a:ext cx="800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ST-Kruskal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, w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[G]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ake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rt the edges of E[G] by nondecreasing weight 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,v)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[G], in order by nondecreasing weight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Find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)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Find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v)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{(u,v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3CC-5EB6-419B-872C-5C076290891F}" type="slidenum">
              <a:t>58</a:t>
            </a:fld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10" name=""/>
          <p:cNvCxnSpPr>
            <a:stCxn id="2004" idx="6"/>
            <a:endCxn id="200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1" name=""/>
          <p:cNvCxnSpPr>
            <a:stCxn id="2007" idx="6"/>
            <a:endCxn id="200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2" name=""/>
          <p:cNvCxnSpPr>
            <a:stCxn id="2003" idx="6"/>
            <a:endCxn id="200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3" name=""/>
          <p:cNvCxnSpPr>
            <a:stCxn id="2006" idx="6"/>
            <a:endCxn id="200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4" name=""/>
          <p:cNvCxnSpPr>
            <a:stCxn id="2004" idx="4"/>
            <a:endCxn id="200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02" idx="4"/>
            <a:endCxn id="200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03" idx="7"/>
            <a:endCxn id="200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08" idx="7"/>
            <a:endCxn id="200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07" idx="5"/>
            <a:endCxn id="200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08" idx="5"/>
            <a:endCxn id="200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2005" idx="7"/>
            <a:endCxn id="200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2005" idx="5"/>
            <a:endCxn id="200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2" name=""/>
          <p:cNvCxnSpPr>
            <a:stCxn id="2009" idx="7"/>
            <a:endCxn id="200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3" name=""/>
          <p:cNvCxnSpPr>
            <a:stCxn id="2002" idx="5"/>
            <a:endCxn id="200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BEA-DD94-4B61-B74A-C63D7DD1EAF7}" type="slidenum">
              <a:t>59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3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00960" y="283536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s O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163600" y="5154480"/>
            <a:ext cx="129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1376280" y="5154480"/>
            <a:ext cx="78732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175752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75752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389240" y="4965840"/>
            <a:ext cx="787320" cy="1038240"/>
          </a:xfrm>
          <a:custGeom>
            <a:avLst/>
            <a:gdLst>
              <a:gd name="textAreaLeft" fmla="*/ 62640 w 787320"/>
              <a:gd name="textAreaRight" fmla="*/ 724680 w 78732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481">
                <a:moveTo>
                  <a:pt x="5891" y="0"/>
                </a:moveTo>
                <a:arcTo wR="5891" hR="5891" stAng="16200000" swAng="-5400000"/>
                <a:lnTo>
                  <a:pt x="0" y="22590"/>
                </a:lnTo>
                <a:arcTo wR="5891" hR="5891" stAng="10800000" swAng="-5400000"/>
                <a:lnTo>
                  <a:pt x="15709" y="28481"/>
                </a:lnTo>
                <a:arcTo wR="5891" hR="5891" stAng="5400000" swAng="-5400000"/>
                <a:lnTo>
                  <a:pt x="21600" y="5891"/>
                </a:lnTo>
                <a:arcTo wR="5891" hR="5891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5361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185472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22622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3087720" y="515448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2274840" y="5154480"/>
            <a:ext cx="8128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66868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66868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2287440" y="4965840"/>
            <a:ext cx="798840" cy="1038240"/>
          </a:xfrm>
          <a:custGeom>
            <a:avLst/>
            <a:gdLst>
              <a:gd name="textAreaLeft" fmla="*/ 62640 w 798840"/>
              <a:gd name="textAreaRight" fmla="*/ 736200 w 7988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070">
                <a:moveTo>
                  <a:pt x="5803" y="0"/>
                </a:moveTo>
                <a:arcTo wR="5803" hR="5803" stAng="16200000" swAng="-5400000"/>
                <a:lnTo>
                  <a:pt x="0" y="22267"/>
                </a:lnTo>
                <a:arcTo wR="5803" hR="5803" stAng="10800000" swAng="-5400000"/>
                <a:lnTo>
                  <a:pt x="15797" y="28070"/>
                </a:lnTo>
                <a:arcTo wR="5803" hR="5803" stAng="5400000" swAng="-5400000"/>
                <a:lnTo>
                  <a:pt x="21600" y="5803"/>
                </a:lnTo>
                <a:arcTo wR="5803" hR="5803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24343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276588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31734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39974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3186000" y="5154480"/>
            <a:ext cx="8114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57984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57984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186000" y="4965840"/>
            <a:ext cx="811440" cy="1038240"/>
          </a:xfrm>
          <a:custGeom>
            <a:avLst/>
            <a:gdLst>
              <a:gd name="textAreaLeft" fmla="*/ 62640 w 811440"/>
              <a:gd name="textAreaRight" fmla="*/ 748800 w 8114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7635">
                <a:moveTo>
                  <a:pt x="5718" y="0"/>
                </a:moveTo>
                <a:arcTo wR="5718" hR="5718" stAng="16200000" swAng="-5400000"/>
                <a:lnTo>
                  <a:pt x="0" y="21917"/>
                </a:lnTo>
                <a:arcTo wR="5718" hR="5718" stAng="10800000" swAng="-5400000"/>
                <a:lnTo>
                  <a:pt x="15882" y="27635"/>
                </a:lnTo>
                <a:arcTo wR="5718" hR="5718" stAng="5400000" swAng="-5400000"/>
                <a:lnTo>
                  <a:pt x="21600" y="5718"/>
                </a:lnTo>
                <a:arcTo wR="5718" hR="5718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333288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367704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4127400" y="582444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8960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4095720" y="5154480"/>
            <a:ext cx="8002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47840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47840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4097160" y="4965840"/>
            <a:ext cx="798840" cy="1038240"/>
          </a:xfrm>
          <a:custGeom>
            <a:avLst/>
            <a:gdLst>
              <a:gd name="textAreaLeft" fmla="*/ 62640 w 798840"/>
              <a:gd name="textAreaRight" fmla="*/ 736200 w 7988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070">
                <a:moveTo>
                  <a:pt x="5803" y="0"/>
                </a:moveTo>
                <a:arcTo wR="5803" hR="5803" stAng="16200000" swAng="-5400000"/>
                <a:lnTo>
                  <a:pt x="0" y="22267"/>
                </a:lnTo>
                <a:arcTo wR="5803" hR="5803" stAng="10800000" swAng="-5400000"/>
                <a:lnTo>
                  <a:pt x="15797" y="28070"/>
                </a:lnTo>
                <a:arcTo wR="5803" hR="5803" stAng="5400000" swAng="-5400000"/>
                <a:lnTo>
                  <a:pt x="21600" y="5803"/>
                </a:lnTo>
                <a:arcTo wR="5803" hR="5803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424260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457560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495792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832360" y="515448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4970520" y="5154480"/>
            <a:ext cx="8618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538812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538812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4983120" y="4965840"/>
            <a:ext cx="847800" cy="1038240"/>
          </a:xfrm>
          <a:custGeom>
            <a:avLst/>
            <a:gdLst>
              <a:gd name="textAreaLeft" fmla="*/ 62640 w 847800"/>
              <a:gd name="textAreaRight" fmla="*/ 785160 w 84780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6450">
                <a:moveTo>
                  <a:pt x="5476" y="0"/>
                </a:moveTo>
                <a:arcTo wR="5476" hR="5476" stAng="16200000" swAng="-5400000"/>
                <a:lnTo>
                  <a:pt x="0" y="20974"/>
                </a:lnTo>
                <a:arcTo wR="5476" hR="5476" stAng="10800000" swAng="-5400000"/>
                <a:lnTo>
                  <a:pt x="16124" y="26450"/>
                </a:lnTo>
                <a:arcTo wR="5476" hR="5476" stAng="5400000" swAng="-5400000"/>
                <a:lnTo>
                  <a:pt x="21600" y="5476"/>
                </a:lnTo>
                <a:arcTo wR="5476" hR="5476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514116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549792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58928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71832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5905440" y="5154480"/>
            <a:ext cx="8128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29928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629928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5905440" y="4965840"/>
            <a:ext cx="812880" cy="1038240"/>
          </a:xfrm>
          <a:custGeom>
            <a:avLst/>
            <a:gdLst>
              <a:gd name="textAreaLeft" fmla="*/ 63000 w 812880"/>
              <a:gd name="textAreaRight" fmla="*/ 749880 w 812880"/>
              <a:gd name="textAreaTop" fmla="*/ 63000 h 1038240"/>
              <a:gd name="textAreaBottom" fmla="*/ 975240 h 1038240"/>
            </a:gdLst>
            <a:ahLst/>
            <a:rect l="textAreaLeft" t="textAreaTop" r="textAreaRight" b="textAreaBottom"/>
            <a:pathLst>
              <a:path w="21600" h="27586">
                <a:moveTo>
                  <a:pt x="5718" y="0"/>
                </a:moveTo>
                <a:arcTo wR="5718" hR="5718" stAng="16200000" swAng="-5400000"/>
                <a:lnTo>
                  <a:pt x="0" y="21868"/>
                </a:lnTo>
                <a:arcTo wR="5718" hR="5718" stAng="10800000" swAng="-5400000"/>
                <a:lnTo>
                  <a:pt x="15882" y="27586"/>
                </a:lnTo>
                <a:arcTo wR="5718" hR="5718" stAng="5400000" swAng="-5400000"/>
                <a:lnTo>
                  <a:pt x="21600" y="5718"/>
                </a:lnTo>
                <a:arcTo wR="5718" hR="5718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60523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39648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67914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76280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5154480"/>
            <a:ext cx="8240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719784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719784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6804000" y="4965840"/>
            <a:ext cx="824040" cy="1038240"/>
          </a:xfrm>
          <a:custGeom>
            <a:avLst/>
            <a:gdLst>
              <a:gd name="textAreaLeft" fmla="*/ 62640 w 824040"/>
              <a:gd name="textAreaRight" fmla="*/ 761400 w 8240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7212">
                <a:moveTo>
                  <a:pt x="5635" y="0"/>
                </a:moveTo>
                <a:arcTo wR="5635" hR="5635" stAng="16200000" swAng="-5400000"/>
                <a:lnTo>
                  <a:pt x="0" y="21577"/>
                </a:lnTo>
                <a:arcTo wR="5635" hR="5635" stAng="10800000" swAng="-5400000"/>
                <a:lnTo>
                  <a:pt x="15965" y="27212"/>
                </a:lnTo>
                <a:arcTo wR="5635" hR="5635" stAng="5400000" swAng="-5400000"/>
                <a:lnTo>
                  <a:pt x="21600" y="5635"/>
                </a:lnTo>
                <a:arcTo wR="5635" hR="5635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696348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730764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1819440" y="5265720"/>
            <a:ext cx="12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N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201528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805760" y="547704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533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24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236088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252036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9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23371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249480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2631600" y="54770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27180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28774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3210120" y="526572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138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3235680" y="56786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3393360" y="56786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52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23568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33933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87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3639600" y="5265720"/>
            <a:ext cx="21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3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36529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381240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9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4157640" y="5265720"/>
            <a:ext cx="12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N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434124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528080" y="526572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138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5277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46857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90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4563000" y="567864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T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734720" y="56786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5042880" y="526572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1904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24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01984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>
            <a:off x="517932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90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5463000" y="5265720"/>
            <a:ext cx="22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52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545004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60952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5744880" y="54770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59310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608904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5941440" y="547704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608904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63486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65080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87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6877800" y="526572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T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704952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447920" y="1600200"/>
            <a:ext cx="6510600" cy="3063600"/>
            <a:chOff x="1447920" y="1600200"/>
            <a:chExt cx="6510600" cy="3063600"/>
          </a:xfrm>
        </p:grpSpPr>
        <p:sp>
          <p:nvSpPr>
            <p:cNvPr id="559" name=""/>
            <p:cNvSpPr/>
            <p:nvPr/>
          </p:nvSpPr>
          <p:spPr>
            <a:xfrm>
              <a:off x="1447920" y="1600200"/>
              <a:ext cx="6200640" cy="987480"/>
            </a:xfrm>
            <a:prstGeom prst="roundRect">
              <a:avLst>
                <a:gd name="adj" fmla="val 260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47920" y="1601640"/>
              <a:ext cx="6200640" cy="984240"/>
            </a:xfrm>
            <a:prstGeom prst="roundRect">
              <a:avLst>
                <a:gd name="adj" fmla="val 25352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86040" y="1942920"/>
              <a:ext cx="158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5280" y="1942920"/>
              <a:ext cx="320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01880" y="1942920"/>
              <a:ext cx="524340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58880" y="3690720"/>
              <a:ext cx="5729400" cy="973080"/>
            </a:xfrm>
            <a:prstGeom prst="roundRect">
              <a:avLst>
                <a:gd name="adj" fmla="val 2647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58880" y="3692520"/>
              <a:ext cx="5729400" cy="969840"/>
            </a:xfrm>
            <a:prstGeom prst="roundRect">
              <a:avLst>
                <a:gd name="adj" fmla="val 25713"/>
              </a:avLst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16360" y="4176720"/>
              <a:ext cx="158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45280" y="4176720"/>
              <a:ext cx="320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2200" y="4176720"/>
              <a:ext cx="511308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11720" y="39481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1172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27200" y="40780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DF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820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8200" y="3949560"/>
              <a:ext cx="5349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55000" y="40780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77080" y="39481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75640" y="3949560"/>
              <a:ext cx="5205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1840" y="40780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OR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1668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14880" y="3949560"/>
              <a:ext cx="5367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64920" y="40780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M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0200" y="39481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2020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68800" y="407808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F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72120" y="39481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72120" y="3949560"/>
              <a:ext cx="51912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36920" y="4078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JF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6860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6716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84080" y="407808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LA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9736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97360" y="17874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12840" y="18716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9104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24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0832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0832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0832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6532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51320" y="2071440"/>
              <a:ext cx="1728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81160" y="2071440"/>
              <a:ext cx="4701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00400" y="17859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0040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3520" y="18716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9408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11720" y="20714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11720" y="24019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11720" y="20858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845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561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00400" y="2071440"/>
              <a:ext cx="4557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43720" y="1785960"/>
              <a:ext cx="4557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43720" y="1787400"/>
              <a:ext cx="4557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6136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3740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87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55040" y="20714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55040" y="24019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55040" y="20858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120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994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27880" y="20714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28920" y="17859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2892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77880" y="187164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N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881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3988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3988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3988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130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0052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28920" y="20714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2144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2144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3728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1332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52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3240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3240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8796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754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0560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72240" y="1785960"/>
              <a:ext cx="4554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72240" y="17874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895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821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44480" y="1871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8320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8320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8320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564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276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72240" y="2071440"/>
              <a:ext cx="4554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9632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9632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44920" y="187164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T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3788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0728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0728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0728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804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502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96320" y="20714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24480" y="1785960"/>
              <a:ext cx="4701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2448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403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3400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3580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3580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580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86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788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24480" y="2071440"/>
              <a:ext cx="45432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960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960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971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15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6092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6092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6092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337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035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9600" y="20714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77080" y="17859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75640" y="1787400"/>
              <a:ext cx="47124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929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8516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90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660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8660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8660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5944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468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7708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53000" y="17859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5300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3716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29040" y="1871640"/>
              <a:ext cx="26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38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63960" y="2071440"/>
              <a:ext cx="3204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63960" y="2401920"/>
              <a:ext cx="3204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3960" y="2085840"/>
              <a:ext cx="3204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371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2280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5300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73360" y="37479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73360" y="37479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43040" y="2344680"/>
              <a:ext cx="177840" cy="14032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91120" y="37908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37908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854360" y="2330280"/>
              <a:ext cx="236844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48240" y="37335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48240" y="37335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694040" y="2330280"/>
              <a:ext cx="142884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21320" y="37479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21320" y="37479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601960" y="2315880"/>
              <a:ext cx="730440" cy="14464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1172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1172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62280" y="2330280"/>
              <a:ext cx="69876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6440" y="37195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6440" y="37195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811600" y="2315880"/>
              <a:ext cx="195120" cy="1403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5120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5120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000520" y="2330280"/>
              <a:ext cx="21096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86360" y="38764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86360" y="38764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2800" y="2330280"/>
              <a:ext cx="2595240" cy="15890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25840" y="37195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25840" y="37195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14880" y="2330280"/>
              <a:ext cx="2588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2600" y="37908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62600" y="37908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41680" y="2330280"/>
              <a:ext cx="235296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02080" y="37195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2080" y="37195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83320" y="2330280"/>
              <a:ext cx="5680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200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7200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3737160" y="2330280"/>
              <a:ext cx="35712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50040" y="37479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50040" y="37479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397560" y="2330280"/>
              <a:ext cx="26028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99160" y="38480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99160" y="38480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060800" y="2344680"/>
              <a:ext cx="28576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06720" y="38480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06720" y="38480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168720" y="2330280"/>
              <a:ext cx="23860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2324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2324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65760" y="2330280"/>
              <a:ext cx="40500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16680" y="37479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16680" y="37479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34120" y="2330280"/>
              <a:ext cx="73008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1816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1816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899160" y="2344680"/>
              <a:ext cx="76176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7868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7868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986360" y="2330280"/>
              <a:ext cx="3412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5720" y="37623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25720" y="37623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87720" y="2301840"/>
              <a:ext cx="2175120" cy="14889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78560" y="37908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78560" y="37908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840200" y="2330280"/>
              <a:ext cx="236988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8048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8048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128000" y="2330280"/>
              <a:ext cx="3254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72040" y="18842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19760" y="39416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175752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266868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357984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47840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38812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629928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719784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725976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46" y="69"/>
                </a:lnTo>
                <a:lnTo>
                  <a:pt x="0" y="11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725976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46" y="69"/>
                </a:lnTo>
                <a:lnTo>
                  <a:pt x="0" y="11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7174080" y="4361040"/>
            <a:ext cx="13464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013520" y="483408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23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7013520" y="483408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23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7049880" y="4437000"/>
            <a:ext cx="12600" cy="38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63612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63612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6286680" y="4361040"/>
            <a:ext cx="1108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6138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24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"/>
          <p:cNvSpPr/>
          <p:nvPr/>
        </p:nvSpPr>
        <p:spPr>
          <a:xfrm>
            <a:off x="6138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24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6176880" y="4361040"/>
            <a:ext cx="18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"/>
          <p:cNvSpPr/>
          <p:nvPr/>
        </p:nvSpPr>
        <p:spPr>
          <a:xfrm>
            <a:off x="54500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54500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5400720" y="4361040"/>
            <a:ext cx="982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"/>
          <p:cNvSpPr/>
          <p:nvPr/>
        </p:nvSpPr>
        <p:spPr>
          <a:xfrm>
            <a:off x="52038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52038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5252760" y="4361040"/>
            <a:ext cx="3636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45766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38" y="6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45766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38" y="6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4514760" y="4361040"/>
            <a:ext cx="9864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43052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43052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354200" y="4361040"/>
            <a:ext cx="4932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368928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1" y="0"/>
                </a:moveTo>
                <a:lnTo>
                  <a:pt x="55" y="0"/>
                </a:lnTo>
                <a:lnTo>
                  <a:pt x="31" y="64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68928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1" y="0"/>
                </a:moveTo>
                <a:lnTo>
                  <a:pt x="55" y="0"/>
                </a:lnTo>
                <a:lnTo>
                  <a:pt x="31" y="64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3738600" y="4361040"/>
            <a:ext cx="144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34196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11"/>
                </a:lnTo>
                <a:lnTo>
                  <a:pt x="8" y="69"/>
                </a:lnTo>
                <a:lnTo>
                  <a:pt x="0" y="0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11"/>
                </a:lnTo>
                <a:lnTo>
                  <a:pt x="8" y="69"/>
                </a:lnTo>
                <a:lnTo>
                  <a:pt x="0" y="0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468600" y="4361040"/>
            <a:ext cx="1605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790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2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2790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2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841120" y="4361040"/>
            <a:ext cx="1116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25210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8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5210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8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2557080" y="4411800"/>
            <a:ext cx="13500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184464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15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184464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15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81360" y="4344840"/>
            <a:ext cx="11088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1609560" y="4834080"/>
            <a:ext cx="98640" cy="109440"/>
          </a:xfrm>
          <a:custGeom>
            <a:avLst/>
            <a:gdLst/>
            <a:ahLst/>
            <a:rect l="l" t="t" r="r" b="b"/>
            <a:pathLst>
              <a:path w="62" h="69">
                <a:moveTo>
                  <a:pt x="31" y="5"/>
                </a:moveTo>
                <a:lnTo>
                  <a:pt x="62" y="11"/>
                </a:lnTo>
                <a:lnTo>
                  <a:pt x="0" y="69"/>
                </a:lnTo>
                <a:lnTo>
                  <a:pt x="8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1609560" y="4834080"/>
            <a:ext cx="98640" cy="109440"/>
          </a:xfrm>
          <a:custGeom>
            <a:avLst/>
            <a:gdLst/>
            <a:ahLst/>
            <a:rect l="l" t="t" r="r" b="b"/>
            <a:pathLst>
              <a:path w="62" h="69">
                <a:moveTo>
                  <a:pt x="31" y="5"/>
                </a:moveTo>
                <a:lnTo>
                  <a:pt x="62" y="11"/>
                </a:lnTo>
                <a:lnTo>
                  <a:pt x="0" y="69"/>
                </a:lnTo>
                <a:lnTo>
                  <a:pt x="8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658520" y="4437000"/>
            <a:ext cx="19692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90600" y="1996920"/>
            <a:ext cx="1731960" cy="3505320"/>
            <a:chOff x="390600" y="1996920"/>
            <a:chExt cx="1731960" cy="3505320"/>
          </a:xfrm>
        </p:grpSpPr>
        <p:sp>
          <p:nvSpPr>
            <p:cNvPr id="819" name=""/>
            <p:cNvSpPr/>
            <p:nvPr/>
          </p:nvSpPr>
          <p:spPr>
            <a:xfrm>
              <a:off x="452520" y="1996920"/>
              <a:ext cx="1333440" cy="3276720"/>
            </a:xfrm>
            <a:custGeom>
              <a:avLst/>
              <a:gdLst/>
              <a:ahLst/>
              <a:rect l="l" t="t" r="r" b="b"/>
              <a:pathLst>
                <a:path w="840" h="2064">
                  <a:moveTo>
                    <a:pt x="840" y="2064"/>
                  </a:moveTo>
                  <a:cubicBezTo>
                    <a:pt x="444" y="1780"/>
                    <a:pt x="48" y="1496"/>
                    <a:pt x="24" y="1152"/>
                  </a:cubicBezTo>
                  <a:cubicBezTo>
                    <a:pt x="0" y="808"/>
                    <a:pt x="348" y="404"/>
                    <a:pt x="69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0600" y="2055600"/>
              <a:ext cx="1731960" cy="3446640"/>
            </a:xfrm>
            <a:custGeom>
              <a:avLst/>
              <a:gdLst/>
              <a:ahLst/>
              <a:rect l="l" t="t" r="r" b="b"/>
              <a:pathLst>
                <a:path w="1091" h="2171">
                  <a:moveTo>
                    <a:pt x="855" y="2171"/>
                  </a:moveTo>
                  <a:cubicBezTo>
                    <a:pt x="459" y="1887"/>
                    <a:pt x="0" y="1621"/>
                    <a:pt x="39" y="1259"/>
                  </a:cubicBezTo>
                  <a:cubicBezTo>
                    <a:pt x="78" y="897"/>
                    <a:pt x="872" y="262"/>
                    <a:pt x="1091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F94-80A9-4F9A-85F6-063AA14CE2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48" name=""/>
          <p:cNvCxnSpPr>
            <a:stCxn id="2042" idx="6"/>
            <a:endCxn id="204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9" name=""/>
          <p:cNvCxnSpPr>
            <a:stCxn id="2045" idx="6"/>
            <a:endCxn id="204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0" name=""/>
          <p:cNvCxnSpPr>
            <a:stCxn id="2041" idx="6"/>
            <a:endCxn id="204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51" name=""/>
          <p:cNvCxnSpPr>
            <a:stCxn id="2044" idx="6"/>
            <a:endCxn id="204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2" name=""/>
          <p:cNvCxnSpPr>
            <a:stCxn id="2042" idx="4"/>
            <a:endCxn id="204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3" name=""/>
          <p:cNvCxnSpPr>
            <a:stCxn id="2040" idx="4"/>
            <a:endCxn id="204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4" name=""/>
          <p:cNvCxnSpPr>
            <a:stCxn id="2041" idx="7"/>
            <a:endCxn id="204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5" name=""/>
          <p:cNvCxnSpPr>
            <a:stCxn id="2046" idx="7"/>
            <a:endCxn id="204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6" name=""/>
          <p:cNvCxnSpPr>
            <a:stCxn id="2045" idx="5"/>
            <a:endCxn id="204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7" name=""/>
          <p:cNvCxnSpPr>
            <a:stCxn id="2046" idx="5"/>
            <a:endCxn id="204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8" name=""/>
          <p:cNvCxnSpPr>
            <a:stCxn id="2043" idx="7"/>
            <a:endCxn id="204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9" name=""/>
          <p:cNvCxnSpPr>
            <a:stCxn id="2043" idx="5"/>
            <a:endCxn id="204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0" name=""/>
          <p:cNvCxnSpPr>
            <a:stCxn id="2047" idx="7"/>
            <a:endCxn id="203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1" name=""/>
          <p:cNvCxnSpPr>
            <a:stCxn id="2040" idx="5"/>
            <a:endCxn id="203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6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A4A-14FC-481E-8471-B8B7C6895703}" type="slidenum">
              <a:t>60</a:t>
            </a:fld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86" name=""/>
          <p:cNvCxnSpPr>
            <a:stCxn id="2080" idx="6"/>
            <a:endCxn id="208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7" name=""/>
          <p:cNvCxnSpPr>
            <a:stCxn id="2083" idx="6"/>
            <a:endCxn id="207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8" name=""/>
          <p:cNvCxnSpPr>
            <a:stCxn id="2079" idx="6"/>
            <a:endCxn id="208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089" name=""/>
          <p:cNvCxnSpPr>
            <a:stCxn id="2082" idx="6"/>
            <a:endCxn id="208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90" name=""/>
          <p:cNvCxnSpPr>
            <a:stCxn id="2080" idx="4"/>
            <a:endCxn id="207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1" name=""/>
          <p:cNvCxnSpPr>
            <a:stCxn id="2078" idx="4"/>
            <a:endCxn id="208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2" name=""/>
          <p:cNvCxnSpPr>
            <a:stCxn id="2079" idx="7"/>
            <a:endCxn id="208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3" name=""/>
          <p:cNvCxnSpPr>
            <a:stCxn id="2084" idx="7"/>
            <a:endCxn id="208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94" name=""/>
          <p:cNvCxnSpPr>
            <a:stCxn id="2083" idx="5"/>
            <a:endCxn id="208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5" name=""/>
          <p:cNvCxnSpPr>
            <a:stCxn id="2084" idx="5"/>
            <a:endCxn id="208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6" name=""/>
          <p:cNvCxnSpPr>
            <a:stCxn id="2081" idx="7"/>
            <a:endCxn id="208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7" name=""/>
          <p:cNvCxnSpPr>
            <a:stCxn id="2081" idx="5"/>
            <a:endCxn id="207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8" name=""/>
          <p:cNvCxnSpPr>
            <a:stCxn id="2085" idx="7"/>
            <a:endCxn id="207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9" name=""/>
          <p:cNvCxnSpPr>
            <a:stCxn id="2078" idx="5"/>
            <a:endCxn id="207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057-31F1-4DD9-A6D5-B52CDA9B8A0B}" type="slidenum">
              <a:t>61</a:t>
            </a:fld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24" name=""/>
          <p:cNvCxnSpPr>
            <a:stCxn id="2118" idx="6"/>
            <a:endCxn id="212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1" idx="6"/>
            <a:endCxn id="211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17" idx="6"/>
            <a:endCxn id="212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7" name=""/>
          <p:cNvCxnSpPr>
            <a:stCxn id="2120" idx="6"/>
            <a:endCxn id="212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8" name=""/>
          <p:cNvCxnSpPr>
            <a:stCxn id="2118" idx="4"/>
            <a:endCxn id="211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9" name=""/>
          <p:cNvCxnSpPr>
            <a:stCxn id="2116" idx="4"/>
            <a:endCxn id="212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0" name=""/>
          <p:cNvCxnSpPr>
            <a:stCxn id="2117" idx="7"/>
            <a:endCxn id="212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1" name=""/>
          <p:cNvCxnSpPr>
            <a:stCxn id="2122" idx="7"/>
            <a:endCxn id="212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32" name=""/>
          <p:cNvCxnSpPr>
            <a:stCxn id="2121" idx="5"/>
            <a:endCxn id="212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3" name=""/>
          <p:cNvCxnSpPr>
            <a:stCxn id="2122" idx="5"/>
            <a:endCxn id="212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4" name=""/>
          <p:cNvCxnSpPr>
            <a:stCxn id="2119" idx="7"/>
            <a:endCxn id="211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5" name=""/>
          <p:cNvCxnSpPr>
            <a:stCxn id="2119" idx="5"/>
            <a:endCxn id="211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6" name=""/>
          <p:cNvCxnSpPr>
            <a:stCxn id="2123" idx="7"/>
            <a:endCxn id="211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7" name=""/>
          <p:cNvCxnSpPr>
            <a:stCxn id="2116" idx="5"/>
            <a:endCxn id="211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3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7D7-29A2-47A0-AA0A-88073B9287EA}" type="slidenum">
              <a:t>62</a:t>
            </a:fld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62" name=""/>
          <p:cNvCxnSpPr>
            <a:stCxn id="2156" idx="6"/>
            <a:endCxn id="215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59" idx="6"/>
            <a:endCxn id="215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4" name=""/>
          <p:cNvCxnSpPr>
            <a:stCxn id="2155" idx="6"/>
            <a:endCxn id="215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5" name=""/>
          <p:cNvCxnSpPr>
            <a:stCxn id="2158" idx="6"/>
            <a:endCxn id="216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6" name=""/>
          <p:cNvCxnSpPr>
            <a:stCxn id="2156" idx="4"/>
            <a:endCxn id="215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7" name=""/>
          <p:cNvCxnSpPr>
            <a:stCxn id="2154" idx="4"/>
            <a:endCxn id="216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8" name=""/>
          <p:cNvCxnSpPr>
            <a:stCxn id="2155" idx="7"/>
            <a:endCxn id="216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9" name=""/>
          <p:cNvCxnSpPr>
            <a:stCxn id="2160" idx="7"/>
            <a:endCxn id="215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70" name=""/>
          <p:cNvCxnSpPr>
            <a:stCxn id="2159" idx="5"/>
            <a:endCxn id="216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71" name=""/>
          <p:cNvCxnSpPr>
            <a:stCxn id="2160" idx="5"/>
            <a:endCxn id="215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2" name=""/>
          <p:cNvCxnSpPr>
            <a:stCxn id="2157" idx="7"/>
            <a:endCxn id="215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73" name=""/>
          <p:cNvCxnSpPr>
            <a:stCxn id="2157" idx="5"/>
            <a:endCxn id="215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4" name=""/>
          <p:cNvCxnSpPr>
            <a:stCxn id="2161" idx="7"/>
            <a:endCxn id="215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5" name=""/>
          <p:cNvCxnSpPr>
            <a:stCxn id="2154" idx="5"/>
            <a:endCxn id="215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7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19A-1A76-4C8D-849A-4E1712C17090}" type="slidenum">
              <a:t>63</a:t>
            </a:fld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00" name=""/>
          <p:cNvCxnSpPr>
            <a:stCxn id="2194" idx="6"/>
            <a:endCxn id="219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1" name=""/>
          <p:cNvCxnSpPr>
            <a:stCxn id="2197" idx="6"/>
            <a:endCxn id="219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2" name=""/>
          <p:cNvCxnSpPr>
            <a:stCxn id="2193" idx="6"/>
            <a:endCxn id="219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3" name=""/>
          <p:cNvCxnSpPr>
            <a:stCxn id="2196" idx="6"/>
            <a:endCxn id="219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4" name=""/>
          <p:cNvCxnSpPr>
            <a:stCxn id="2194" idx="4"/>
            <a:endCxn id="219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5" name=""/>
          <p:cNvCxnSpPr>
            <a:stCxn id="2192" idx="4"/>
            <a:endCxn id="219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6" name=""/>
          <p:cNvCxnSpPr>
            <a:stCxn id="2193" idx="7"/>
            <a:endCxn id="219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7" name=""/>
          <p:cNvCxnSpPr>
            <a:stCxn id="2198" idx="7"/>
            <a:endCxn id="219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8" name=""/>
          <p:cNvCxnSpPr>
            <a:stCxn id="2197" idx="5"/>
            <a:endCxn id="219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09" name=""/>
          <p:cNvCxnSpPr>
            <a:stCxn id="2198" idx="5"/>
            <a:endCxn id="219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0" name=""/>
          <p:cNvCxnSpPr>
            <a:stCxn id="2195" idx="7"/>
            <a:endCxn id="219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11" name=""/>
          <p:cNvCxnSpPr>
            <a:stCxn id="2195" idx="5"/>
            <a:endCxn id="219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2" name=""/>
          <p:cNvCxnSpPr>
            <a:stCxn id="2199" idx="7"/>
            <a:endCxn id="219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3" name=""/>
          <p:cNvCxnSpPr>
            <a:stCxn id="2192" idx="5"/>
            <a:endCxn id="219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1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8DE-E34B-48E5-BCBE-6A991EEBD792}" type="slidenum">
              <a:t>64</a:t>
            </a:fld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38" name=""/>
          <p:cNvCxnSpPr>
            <a:stCxn id="2232" idx="6"/>
            <a:endCxn id="223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9" name=""/>
          <p:cNvCxnSpPr>
            <a:stCxn id="2235" idx="6"/>
            <a:endCxn id="223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0" name=""/>
          <p:cNvCxnSpPr>
            <a:stCxn id="2231" idx="6"/>
            <a:endCxn id="223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1" name=""/>
          <p:cNvCxnSpPr>
            <a:stCxn id="2234" idx="6"/>
            <a:endCxn id="223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2" name=""/>
          <p:cNvCxnSpPr>
            <a:stCxn id="2232" idx="4"/>
            <a:endCxn id="223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3" name=""/>
          <p:cNvCxnSpPr>
            <a:stCxn id="2230" idx="4"/>
            <a:endCxn id="223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4" name=""/>
          <p:cNvCxnSpPr>
            <a:stCxn id="2231" idx="7"/>
            <a:endCxn id="223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5" name=""/>
          <p:cNvCxnSpPr>
            <a:stCxn id="2236" idx="7"/>
            <a:endCxn id="223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6" name=""/>
          <p:cNvCxnSpPr>
            <a:stCxn id="2235" idx="5"/>
            <a:endCxn id="223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7" name=""/>
          <p:cNvCxnSpPr>
            <a:stCxn id="2236" idx="5"/>
            <a:endCxn id="223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48" name=""/>
          <p:cNvCxnSpPr>
            <a:stCxn id="2233" idx="7"/>
            <a:endCxn id="223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9" name=""/>
          <p:cNvCxnSpPr>
            <a:stCxn id="2233" idx="5"/>
            <a:endCxn id="223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0" name=""/>
          <p:cNvCxnSpPr>
            <a:stCxn id="2237" idx="7"/>
            <a:endCxn id="222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1" name=""/>
          <p:cNvCxnSpPr>
            <a:stCxn id="2230" idx="5"/>
            <a:endCxn id="222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7BC-BBB5-4525-8A19-A4A7EB161EAF}" type="slidenum">
              <a:t>65</a:t>
            </a:fld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76" name=""/>
          <p:cNvCxnSpPr>
            <a:stCxn id="2270" idx="6"/>
            <a:endCxn id="227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7" name=""/>
          <p:cNvCxnSpPr>
            <a:stCxn id="2273" idx="6"/>
            <a:endCxn id="226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78" name=""/>
          <p:cNvCxnSpPr>
            <a:stCxn id="2269" idx="6"/>
            <a:endCxn id="227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9" name=""/>
          <p:cNvCxnSpPr>
            <a:stCxn id="2272" idx="6"/>
            <a:endCxn id="227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0" name=""/>
          <p:cNvCxnSpPr>
            <a:stCxn id="2270" idx="4"/>
            <a:endCxn id="226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1" name=""/>
          <p:cNvCxnSpPr>
            <a:stCxn id="2268" idx="4"/>
            <a:endCxn id="227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2" name=""/>
          <p:cNvCxnSpPr>
            <a:stCxn id="2269" idx="7"/>
            <a:endCxn id="227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83" name=""/>
          <p:cNvCxnSpPr>
            <a:stCxn id="2274" idx="7"/>
            <a:endCxn id="227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4" name=""/>
          <p:cNvCxnSpPr>
            <a:stCxn id="2273" idx="5"/>
            <a:endCxn id="227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5" name=""/>
          <p:cNvCxnSpPr>
            <a:stCxn id="2274" idx="5"/>
            <a:endCxn id="227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6" name=""/>
          <p:cNvCxnSpPr>
            <a:stCxn id="2271" idx="7"/>
            <a:endCxn id="227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7" name=""/>
          <p:cNvCxnSpPr>
            <a:stCxn id="2271" idx="5"/>
            <a:endCxn id="226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8" name=""/>
          <p:cNvCxnSpPr>
            <a:stCxn id="2275" idx="7"/>
            <a:endCxn id="226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9" name=""/>
          <p:cNvCxnSpPr>
            <a:stCxn id="2268" idx="5"/>
            <a:endCxn id="226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6D5-9C6E-4FB1-B46C-32659E6C0420}" type="slidenum">
              <a:t>66</a:t>
            </a:fld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14" name=""/>
          <p:cNvCxnSpPr>
            <a:stCxn id="2308" idx="6"/>
            <a:endCxn id="231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5" name=""/>
          <p:cNvCxnSpPr>
            <a:stCxn id="2311" idx="6"/>
            <a:endCxn id="230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16" name=""/>
          <p:cNvCxnSpPr>
            <a:stCxn id="2307" idx="6"/>
            <a:endCxn id="231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17" name=""/>
          <p:cNvCxnSpPr>
            <a:stCxn id="2310" idx="6"/>
            <a:endCxn id="231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18" name=""/>
          <p:cNvCxnSpPr>
            <a:stCxn id="2308" idx="4"/>
            <a:endCxn id="230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9" name=""/>
          <p:cNvCxnSpPr>
            <a:stCxn id="2306" idx="4"/>
            <a:endCxn id="231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0" name=""/>
          <p:cNvCxnSpPr>
            <a:stCxn id="2307" idx="7"/>
            <a:endCxn id="231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1" name=""/>
          <p:cNvCxnSpPr>
            <a:stCxn id="2312" idx="7"/>
            <a:endCxn id="231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2" name=""/>
          <p:cNvCxnSpPr>
            <a:stCxn id="2311" idx="5"/>
            <a:endCxn id="231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3" name=""/>
          <p:cNvCxnSpPr>
            <a:stCxn id="2312" idx="5"/>
            <a:endCxn id="231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4" name=""/>
          <p:cNvCxnSpPr>
            <a:stCxn id="2309" idx="7"/>
            <a:endCxn id="230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5" name=""/>
          <p:cNvCxnSpPr>
            <a:stCxn id="2309" idx="5"/>
            <a:endCxn id="230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6" name=""/>
          <p:cNvCxnSpPr>
            <a:stCxn id="2313" idx="7"/>
            <a:endCxn id="230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7" name=""/>
          <p:cNvCxnSpPr>
            <a:stCxn id="2306" idx="5"/>
            <a:endCxn id="230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2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7DB-DFD1-41E8-9B14-1CF5E35450BF}" type="slidenum">
              <a:t>67</a:t>
            </a:fld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52" name=""/>
          <p:cNvCxnSpPr>
            <a:stCxn id="2346" idx="6"/>
            <a:endCxn id="234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53" name=""/>
          <p:cNvCxnSpPr>
            <a:stCxn id="2349" idx="6"/>
            <a:endCxn id="234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4" name=""/>
          <p:cNvCxnSpPr>
            <a:stCxn id="2345" idx="6"/>
            <a:endCxn id="234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5" name=""/>
          <p:cNvCxnSpPr>
            <a:stCxn id="2348" idx="6"/>
            <a:endCxn id="235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6" name=""/>
          <p:cNvCxnSpPr>
            <a:stCxn id="2346" idx="4"/>
            <a:endCxn id="234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7" name=""/>
          <p:cNvCxnSpPr>
            <a:stCxn id="2344" idx="4"/>
            <a:endCxn id="235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8" name=""/>
          <p:cNvCxnSpPr>
            <a:stCxn id="2345" idx="7"/>
            <a:endCxn id="235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9" name=""/>
          <p:cNvCxnSpPr>
            <a:stCxn id="2350" idx="7"/>
            <a:endCxn id="234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0" name=""/>
          <p:cNvCxnSpPr>
            <a:stCxn id="2349" idx="5"/>
            <a:endCxn id="235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1" name=""/>
          <p:cNvCxnSpPr>
            <a:stCxn id="2350" idx="5"/>
            <a:endCxn id="234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2" name=""/>
          <p:cNvCxnSpPr>
            <a:stCxn id="2347" idx="7"/>
            <a:endCxn id="234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3" name=""/>
          <p:cNvCxnSpPr>
            <a:stCxn id="2347" idx="5"/>
            <a:endCxn id="234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64" name=""/>
          <p:cNvCxnSpPr>
            <a:stCxn id="2351" idx="7"/>
            <a:endCxn id="234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5" name=""/>
          <p:cNvCxnSpPr>
            <a:stCxn id="2344" idx="5"/>
            <a:endCxn id="234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6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D48-1279-41B1-8AD9-7A4620FB8A17}" type="slidenum">
              <a:t>68</a:t>
            </a:fld>
          </a:p>
        </p:txBody>
      </p:sp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90" name=""/>
          <p:cNvCxnSpPr>
            <a:stCxn id="2384" idx="6"/>
            <a:endCxn id="238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91" name=""/>
          <p:cNvCxnSpPr>
            <a:stCxn id="2387" idx="6"/>
            <a:endCxn id="238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2" name=""/>
          <p:cNvCxnSpPr>
            <a:stCxn id="2383" idx="6"/>
            <a:endCxn id="238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3" name=""/>
          <p:cNvCxnSpPr>
            <a:stCxn id="2386" idx="6"/>
            <a:endCxn id="238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4" name=""/>
          <p:cNvCxnSpPr>
            <a:stCxn id="2384" idx="4"/>
            <a:endCxn id="238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5" name=""/>
          <p:cNvCxnSpPr>
            <a:stCxn id="2382" idx="4"/>
            <a:endCxn id="238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6" name=""/>
          <p:cNvCxnSpPr>
            <a:stCxn id="2383" idx="7"/>
            <a:endCxn id="238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7" name=""/>
          <p:cNvCxnSpPr>
            <a:stCxn id="2388" idx="7"/>
            <a:endCxn id="238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8" name=""/>
          <p:cNvCxnSpPr>
            <a:stCxn id="2387" idx="5"/>
            <a:endCxn id="238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9" name=""/>
          <p:cNvCxnSpPr>
            <a:stCxn id="2388" idx="5"/>
            <a:endCxn id="238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0" name=""/>
          <p:cNvCxnSpPr>
            <a:stCxn id="2385" idx="7"/>
            <a:endCxn id="238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01" name=""/>
          <p:cNvCxnSpPr>
            <a:stCxn id="2385" idx="5"/>
            <a:endCxn id="238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02" name=""/>
          <p:cNvCxnSpPr>
            <a:stCxn id="2389" idx="7"/>
            <a:endCxn id="238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3" name=""/>
          <p:cNvCxnSpPr>
            <a:stCxn id="2382" idx="5"/>
            <a:endCxn id="238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0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73D-1916-4915-9357-0B5B328726A9}" type="slidenum">
              <a:t>69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4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155600" y="2057400"/>
            <a:ext cx="6061320" cy="2563920"/>
            <a:chOff x="1155600" y="2057400"/>
            <a:chExt cx="6061320" cy="2563920"/>
          </a:xfrm>
        </p:grpSpPr>
        <p:sp>
          <p:nvSpPr>
            <p:cNvPr id="823" name=""/>
            <p:cNvSpPr/>
            <p:nvPr/>
          </p:nvSpPr>
          <p:spPr>
            <a:xfrm>
              <a:off x="1380960" y="42228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80960" y="2535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6228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180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2096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01920" y="2535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81320" y="2881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6192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144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2096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01920" y="2881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8132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61920" y="3225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41440" y="3225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2096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0192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8132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61920" y="357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4180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420960" y="357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0192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980960" y="3916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6228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180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2096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01920" y="3916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08600" y="2322360"/>
              <a:ext cx="53640" cy="27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08600" y="4383000"/>
              <a:ext cx="5364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08600" y="2349360"/>
              <a:ext cx="53640" cy="203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22640" y="4368960"/>
              <a:ext cx="52560" cy="53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25"/>
                  </a:moveTo>
                  <a:lnTo>
                    <a:pt x="17" y="34"/>
                  </a:lnTo>
                  <a:lnTo>
                    <a:pt x="33" y="9"/>
                  </a:lnTo>
                  <a:lnTo>
                    <a:pt x="1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76600" y="3386160"/>
              <a:ext cx="52200" cy="666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6" y="42"/>
                  </a:moveTo>
                  <a:lnTo>
                    <a:pt x="0" y="33"/>
                  </a:lnTo>
                  <a:lnTo>
                    <a:pt x="25" y="0"/>
                  </a:lnTo>
                  <a:lnTo>
                    <a:pt x="33" y="17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1800" y="3413160"/>
              <a:ext cx="1347840" cy="995400"/>
            </a:xfrm>
            <a:custGeom>
              <a:avLst/>
              <a:gdLst/>
              <a:ahLst/>
              <a:rect l="l" t="t" r="r" b="b"/>
              <a:pathLst>
                <a:path w="849" h="627">
                  <a:moveTo>
                    <a:pt x="832" y="627"/>
                  </a:moveTo>
                  <a:lnTo>
                    <a:pt x="849" y="602"/>
                  </a:lnTo>
                  <a:lnTo>
                    <a:pt x="17" y="0"/>
                  </a:lnTo>
                  <a:lnTo>
                    <a:pt x="0" y="25"/>
                  </a:lnTo>
                  <a:lnTo>
                    <a:pt x="832" y="6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01800" y="341316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5"/>
                  </a:moveTo>
                  <a:lnTo>
                    <a:pt x="17" y="33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55760" y="230976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7" y="42"/>
                  </a:moveTo>
                  <a:lnTo>
                    <a:pt x="0" y="33"/>
                  </a:lnTo>
                  <a:lnTo>
                    <a:pt x="26" y="0"/>
                  </a:lnTo>
                  <a:lnTo>
                    <a:pt x="42" y="17"/>
                  </a:lnTo>
                  <a:lnTo>
                    <a:pt x="1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82760" y="2336760"/>
              <a:ext cx="1360440" cy="1116000"/>
            </a:xfrm>
            <a:custGeom>
              <a:avLst/>
              <a:gdLst/>
              <a:ahLst/>
              <a:rect l="l" t="t" r="r" b="b"/>
              <a:pathLst>
                <a:path w="857" h="703">
                  <a:moveTo>
                    <a:pt x="831" y="703"/>
                  </a:moveTo>
                  <a:lnTo>
                    <a:pt x="857" y="678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831" y="70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01800" y="338616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7" y="42"/>
                  </a:moveTo>
                  <a:lnTo>
                    <a:pt x="34" y="33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1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55760" y="436896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25"/>
                  </a:moveTo>
                  <a:lnTo>
                    <a:pt x="26" y="34"/>
                  </a:lnTo>
                  <a:lnTo>
                    <a:pt x="0" y="9"/>
                  </a:lnTo>
                  <a:lnTo>
                    <a:pt x="17" y="0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82760" y="3413160"/>
              <a:ext cx="1346040" cy="995400"/>
            </a:xfrm>
            <a:custGeom>
              <a:avLst/>
              <a:gdLst/>
              <a:ahLst/>
              <a:rect l="l" t="t" r="r" b="b"/>
              <a:pathLst>
                <a:path w="848" h="627">
                  <a:moveTo>
                    <a:pt x="848" y="25"/>
                  </a:moveTo>
                  <a:lnTo>
                    <a:pt x="831" y="0"/>
                  </a:lnTo>
                  <a:lnTo>
                    <a:pt x="0" y="602"/>
                  </a:lnTo>
                  <a:lnTo>
                    <a:pt x="17" y="627"/>
                  </a:lnTo>
                  <a:lnTo>
                    <a:pt x="848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70160" y="2322360"/>
              <a:ext cx="52200" cy="27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70160" y="4383000"/>
              <a:ext cx="5220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70160" y="2349360"/>
              <a:ext cx="52200" cy="203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70160" y="2322360"/>
              <a:ext cx="2700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35600" y="2322360"/>
              <a:ext cx="2664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97160" y="2322360"/>
              <a:ext cx="263844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70160" y="4356000"/>
              <a:ext cx="2700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35600" y="4356000"/>
              <a:ext cx="2664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97160" y="4356000"/>
              <a:ext cx="263844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55600" y="2109960"/>
              <a:ext cx="480960" cy="47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162080" y="2116080"/>
              <a:ext cx="468360" cy="46692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95840" y="4143240"/>
              <a:ext cx="479160" cy="47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01960" y="414972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76440" y="3186000"/>
              <a:ext cx="47952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81120" y="319248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95840" y="2109960"/>
              <a:ext cx="479160" cy="47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1960" y="2116080"/>
              <a:ext cx="468360" cy="46692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55600" y="4143240"/>
              <a:ext cx="480960" cy="47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62080" y="414972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02840" y="21636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41280" y="22035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37000" y="3240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55680" y="41958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67200" y="2475000"/>
              <a:ext cx="2349720" cy="184932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8168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62640" y="2057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4216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21320" y="2057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0264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16560" y="249552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16560" y="28414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16560" y="31860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16560" y="35323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16560" y="3876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94920" y="4191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914400" y="5105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Spac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標楷體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標楷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FB9-E1B8-46F2-A2FA-4FD7659A23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28" name=""/>
          <p:cNvCxnSpPr>
            <a:stCxn id="2422" idx="6"/>
            <a:endCxn id="242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9" name=""/>
          <p:cNvCxnSpPr>
            <a:stCxn id="2425" idx="6"/>
            <a:endCxn id="242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0" name=""/>
          <p:cNvCxnSpPr>
            <a:stCxn id="2421" idx="6"/>
            <a:endCxn id="242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1" name=""/>
          <p:cNvCxnSpPr>
            <a:stCxn id="2424" idx="6"/>
            <a:endCxn id="242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2" name=""/>
          <p:cNvCxnSpPr>
            <a:stCxn id="2422" idx="4"/>
            <a:endCxn id="242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3" name=""/>
          <p:cNvCxnSpPr>
            <a:stCxn id="2420" idx="4"/>
            <a:endCxn id="242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4" name=""/>
          <p:cNvCxnSpPr>
            <a:stCxn id="2421" idx="7"/>
            <a:endCxn id="242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5" name=""/>
          <p:cNvCxnSpPr>
            <a:stCxn id="2426" idx="7"/>
            <a:endCxn id="242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6" name=""/>
          <p:cNvCxnSpPr>
            <a:stCxn id="2425" idx="5"/>
            <a:endCxn id="242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7" name=""/>
          <p:cNvCxnSpPr>
            <a:stCxn id="2426" idx="5"/>
            <a:endCxn id="242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8" name=""/>
          <p:cNvCxnSpPr>
            <a:stCxn id="2423" idx="7"/>
            <a:endCxn id="242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9" name=""/>
          <p:cNvCxnSpPr>
            <a:stCxn id="2423" idx="5"/>
            <a:endCxn id="242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40" name=""/>
          <p:cNvCxnSpPr>
            <a:stCxn id="2427" idx="7"/>
            <a:endCxn id="241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1" name=""/>
          <p:cNvCxnSpPr>
            <a:stCxn id="2420" idx="5"/>
            <a:endCxn id="241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sp>
        <p:nvSpPr>
          <p:cNvPr id="244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F00-A3DF-45AB-AE7F-D30C3588000F}" type="slidenum">
              <a:t>70</a:t>
            </a:fld>
          </a:p>
        </p:txBody>
      </p:sp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66" name=""/>
          <p:cNvCxnSpPr>
            <a:stCxn id="2460" idx="6"/>
            <a:endCxn id="246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7" name=""/>
          <p:cNvCxnSpPr>
            <a:stCxn id="2463" idx="6"/>
            <a:endCxn id="245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68" name=""/>
          <p:cNvCxnSpPr>
            <a:stCxn id="2459" idx="6"/>
            <a:endCxn id="246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69" name=""/>
          <p:cNvCxnSpPr>
            <a:stCxn id="2462" idx="6"/>
            <a:endCxn id="246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0" name=""/>
          <p:cNvCxnSpPr>
            <a:stCxn id="2460" idx="4"/>
            <a:endCxn id="245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1" name=""/>
          <p:cNvCxnSpPr>
            <a:stCxn id="2458" idx="4"/>
            <a:endCxn id="246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2" name=""/>
          <p:cNvCxnSpPr>
            <a:stCxn id="2459" idx="7"/>
            <a:endCxn id="246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3" name=""/>
          <p:cNvCxnSpPr>
            <a:stCxn id="2464" idx="7"/>
            <a:endCxn id="246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4" name=""/>
          <p:cNvCxnSpPr>
            <a:stCxn id="2463" idx="5"/>
            <a:endCxn id="246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5" name=""/>
          <p:cNvCxnSpPr>
            <a:stCxn id="2464" idx="5"/>
            <a:endCxn id="246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6" name=""/>
          <p:cNvCxnSpPr>
            <a:stCxn id="2461" idx="7"/>
            <a:endCxn id="246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7" name=""/>
          <p:cNvCxnSpPr>
            <a:stCxn id="2461" idx="5"/>
            <a:endCxn id="245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8" name=""/>
          <p:cNvCxnSpPr>
            <a:stCxn id="2465" idx="7"/>
            <a:endCxn id="245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479" name=""/>
          <p:cNvCxnSpPr>
            <a:stCxn id="2458" idx="5"/>
            <a:endCxn id="245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48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E79-D15E-46E4-B827-5AA25123AC70}" type="slidenum">
              <a:t>71</a:t>
            </a:fld>
          </a:p>
        </p:txBody>
      </p:sp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04" name=""/>
          <p:cNvCxnSpPr>
            <a:stCxn id="2498" idx="6"/>
            <a:endCxn id="250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5" name=""/>
          <p:cNvCxnSpPr>
            <a:stCxn id="2501" idx="6"/>
            <a:endCxn id="249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6" name=""/>
          <p:cNvCxnSpPr>
            <a:stCxn id="2497" idx="6"/>
            <a:endCxn id="250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7" name=""/>
          <p:cNvCxnSpPr>
            <a:stCxn id="2500" idx="6"/>
            <a:endCxn id="250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8" name=""/>
          <p:cNvCxnSpPr>
            <a:stCxn id="2498" idx="4"/>
            <a:endCxn id="249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509" name=""/>
          <p:cNvCxnSpPr>
            <a:stCxn id="2496" idx="4"/>
            <a:endCxn id="250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0" name=""/>
          <p:cNvCxnSpPr>
            <a:stCxn id="2497" idx="7"/>
            <a:endCxn id="250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1" name=""/>
          <p:cNvCxnSpPr>
            <a:stCxn id="2502" idx="7"/>
            <a:endCxn id="250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2" name=""/>
          <p:cNvCxnSpPr>
            <a:stCxn id="2501" idx="5"/>
            <a:endCxn id="250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3" name=""/>
          <p:cNvCxnSpPr>
            <a:stCxn id="2502" idx="5"/>
            <a:endCxn id="250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4" name=""/>
          <p:cNvCxnSpPr>
            <a:stCxn id="2499" idx="7"/>
            <a:endCxn id="249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5" name=""/>
          <p:cNvCxnSpPr>
            <a:stCxn id="2499" idx="5"/>
            <a:endCxn id="249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6" name=""/>
          <p:cNvCxnSpPr>
            <a:stCxn id="2503" idx="7"/>
            <a:endCxn id="249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7" name=""/>
          <p:cNvCxnSpPr>
            <a:stCxn id="2496" idx="5"/>
            <a:endCxn id="249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1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A83-3F50-4740-9750-873C4934BFCC}" type="slidenum">
              <a:t>72</a:t>
            </a:fld>
          </a:p>
        </p:txBody>
      </p:sp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42" name=""/>
          <p:cNvCxnSpPr>
            <a:stCxn id="2536" idx="6"/>
            <a:endCxn id="253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3" name=""/>
          <p:cNvCxnSpPr>
            <a:stCxn id="2539" idx="6"/>
            <a:endCxn id="253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4" name=""/>
          <p:cNvCxnSpPr>
            <a:stCxn id="2535" idx="6"/>
            <a:endCxn id="253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5" name=""/>
          <p:cNvCxnSpPr>
            <a:stCxn id="2538" idx="6"/>
            <a:endCxn id="254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6" name=""/>
          <p:cNvCxnSpPr>
            <a:stCxn id="2536" idx="4"/>
            <a:endCxn id="253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7" name=""/>
          <p:cNvCxnSpPr>
            <a:stCxn id="2534" idx="4"/>
            <a:endCxn id="254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548" name=""/>
          <p:cNvCxnSpPr>
            <a:stCxn id="2535" idx="7"/>
            <a:endCxn id="254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9" name=""/>
          <p:cNvCxnSpPr>
            <a:stCxn id="2540" idx="7"/>
            <a:endCxn id="253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0" name=""/>
          <p:cNvCxnSpPr>
            <a:stCxn id="2539" idx="5"/>
            <a:endCxn id="254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1" name=""/>
          <p:cNvCxnSpPr>
            <a:stCxn id="2540" idx="5"/>
            <a:endCxn id="253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2" name=""/>
          <p:cNvCxnSpPr>
            <a:stCxn id="2537" idx="7"/>
            <a:endCxn id="253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3" name=""/>
          <p:cNvCxnSpPr>
            <a:stCxn id="2537" idx="5"/>
            <a:endCxn id="253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4" name=""/>
          <p:cNvCxnSpPr>
            <a:stCxn id="2541" idx="7"/>
            <a:endCxn id="253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5" name=""/>
          <p:cNvCxnSpPr>
            <a:stCxn id="2534" idx="5"/>
            <a:endCxn id="253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5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43A-59D1-402E-986D-0998ADFD7DE0}" type="slidenum">
              <a:t>73</a:t>
            </a:fld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80" name=""/>
          <p:cNvCxnSpPr>
            <a:stCxn id="2574" idx="6"/>
            <a:endCxn id="257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1" name=""/>
          <p:cNvCxnSpPr>
            <a:stCxn id="2577" idx="6"/>
            <a:endCxn id="257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2" name=""/>
          <p:cNvCxnSpPr>
            <a:stCxn id="2573" idx="6"/>
            <a:endCxn id="257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3" name=""/>
          <p:cNvCxnSpPr>
            <a:stCxn id="2576" idx="6"/>
            <a:endCxn id="257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4" name=""/>
          <p:cNvCxnSpPr>
            <a:stCxn id="2574" idx="4"/>
            <a:endCxn id="257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5" name=""/>
          <p:cNvCxnSpPr>
            <a:stCxn id="2572" idx="4"/>
            <a:endCxn id="257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6" name=""/>
          <p:cNvCxnSpPr>
            <a:stCxn id="2573" idx="7"/>
            <a:endCxn id="257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7" name=""/>
          <p:cNvCxnSpPr>
            <a:stCxn id="2578" idx="7"/>
            <a:endCxn id="257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8" name=""/>
          <p:cNvCxnSpPr>
            <a:stCxn id="2577" idx="5"/>
            <a:endCxn id="257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9" name=""/>
          <p:cNvCxnSpPr>
            <a:stCxn id="2578" idx="5"/>
            <a:endCxn id="257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0" name=""/>
          <p:cNvCxnSpPr>
            <a:stCxn id="2575" idx="7"/>
            <a:endCxn id="257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91" name=""/>
          <p:cNvCxnSpPr>
            <a:stCxn id="2575" idx="5"/>
            <a:endCxn id="257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92" name=""/>
          <p:cNvCxnSpPr>
            <a:stCxn id="2579" idx="7"/>
            <a:endCxn id="257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3" name=""/>
          <p:cNvCxnSpPr>
            <a:stCxn id="2572" idx="5"/>
            <a:endCxn id="257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9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CC2-DCEC-4CE9-85CD-5DDE96816B7A}" type="slidenum">
              <a:t>74</a:t>
            </a:fld>
          </a:p>
        </p:txBody>
      </p:sp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v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1061640" y="1447920"/>
            <a:ext cx="575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ST-Prim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, w),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[G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u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r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[r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ExtractMi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)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Q and w(u,v) &lt;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v]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[v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v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(u,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122-63DA-468B-9611-67E08BB0CB61}" type="slidenum">
              <a:t>75</a:t>
            </a:fld>
          </a:p>
        </p:txBody>
      </p:sp>
    </p:spTree>
  </p:cSld>
  <p:transition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20" name=""/>
          <p:cNvCxnSpPr>
            <a:stCxn id="2614" idx="6"/>
            <a:endCxn id="261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1" name=""/>
          <p:cNvCxnSpPr>
            <a:stCxn id="2617" idx="6"/>
            <a:endCxn id="261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2" name=""/>
          <p:cNvCxnSpPr>
            <a:stCxn id="2613" idx="6"/>
            <a:endCxn id="261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3" name=""/>
          <p:cNvCxnSpPr>
            <a:stCxn id="2616" idx="6"/>
            <a:endCxn id="261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4" name=""/>
          <p:cNvCxnSpPr>
            <a:stCxn id="2614" idx="4"/>
            <a:endCxn id="261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5" name=""/>
          <p:cNvCxnSpPr>
            <a:stCxn id="2612" idx="4"/>
            <a:endCxn id="261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6" name=""/>
          <p:cNvCxnSpPr>
            <a:stCxn id="2613" idx="7"/>
            <a:endCxn id="261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7" name=""/>
          <p:cNvCxnSpPr>
            <a:stCxn id="2618" idx="7"/>
            <a:endCxn id="261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8" name=""/>
          <p:cNvCxnSpPr>
            <a:stCxn id="2617" idx="5"/>
            <a:endCxn id="261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9" name=""/>
          <p:cNvCxnSpPr>
            <a:stCxn id="2618" idx="5"/>
            <a:endCxn id="261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0" name=""/>
          <p:cNvCxnSpPr>
            <a:stCxn id="2615" idx="7"/>
            <a:endCxn id="261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1" name=""/>
          <p:cNvCxnSpPr>
            <a:stCxn id="2615" idx="5"/>
            <a:endCxn id="261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2" name=""/>
          <p:cNvCxnSpPr>
            <a:stCxn id="2619" idx="7"/>
            <a:endCxn id="261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3" name=""/>
          <p:cNvCxnSpPr>
            <a:stCxn id="2612" idx="5"/>
            <a:endCxn id="261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237-5FDC-4072-A37A-2383CBB01287}" type="slidenum">
              <a:t>76</a:t>
            </a:fld>
          </a:p>
        </p:txBody>
      </p:sp>
    </p:spTree>
  </p:cSld>
  <p:transition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8" name=""/>
          <p:cNvCxnSpPr>
            <a:stCxn id="2652" idx="6"/>
            <a:endCxn id="265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9" name=""/>
          <p:cNvCxnSpPr>
            <a:stCxn id="2655" idx="6"/>
            <a:endCxn id="265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0" name=""/>
          <p:cNvCxnSpPr>
            <a:stCxn id="2651" idx="6"/>
            <a:endCxn id="265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1" name=""/>
          <p:cNvCxnSpPr>
            <a:stCxn id="2654" idx="6"/>
            <a:endCxn id="265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2" name=""/>
          <p:cNvCxnSpPr>
            <a:stCxn id="2652" idx="4"/>
            <a:endCxn id="265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3" name=""/>
          <p:cNvCxnSpPr>
            <a:stCxn id="2650" idx="4"/>
            <a:endCxn id="265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4" name=""/>
          <p:cNvCxnSpPr>
            <a:stCxn id="2651" idx="7"/>
            <a:endCxn id="265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5" name=""/>
          <p:cNvCxnSpPr>
            <a:stCxn id="2656" idx="7"/>
            <a:endCxn id="265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6" name=""/>
          <p:cNvCxnSpPr>
            <a:stCxn id="2655" idx="5"/>
            <a:endCxn id="265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7" name=""/>
          <p:cNvCxnSpPr>
            <a:stCxn id="2656" idx="5"/>
            <a:endCxn id="265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8" name=""/>
          <p:cNvCxnSpPr>
            <a:stCxn id="2653" idx="7"/>
            <a:endCxn id="265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9" name=""/>
          <p:cNvCxnSpPr>
            <a:stCxn id="2653" idx="5"/>
            <a:endCxn id="265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0" name=""/>
          <p:cNvCxnSpPr>
            <a:stCxn id="2657" idx="7"/>
            <a:endCxn id="264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1" name=""/>
          <p:cNvCxnSpPr>
            <a:stCxn id="2650" idx="5"/>
            <a:endCxn id="264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810-3432-4BF6-A3AE-1BF48CCB27E6}" type="slidenum">
              <a:t>77</a:t>
            </a:fld>
          </a:p>
        </p:txBody>
      </p:sp>
    </p:spTree>
  </p:cSld>
  <p:transition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96" name=""/>
          <p:cNvCxnSpPr>
            <a:stCxn id="2690" idx="6"/>
            <a:endCxn id="269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7" name=""/>
          <p:cNvCxnSpPr>
            <a:stCxn id="2693" idx="6"/>
            <a:endCxn id="268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8" name=""/>
          <p:cNvCxnSpPr>
            <a:stCxn id="2689" idx="6"/>
            <a:endCxn id="269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9" name=""/>
          <p:cNvCxnSpPr>
            <a:stCxn id="2692" idx="6"/>
            <a:endCxn id="269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0" name=""/>
          <p:cNvCxnSpPr>
            <a:stCxn id="2690" idx="4"/>
            <a:endCxn id="268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1" name=""/>
          <p:cNvCxnSpPr>
            <a:stCxn id="2688" idx="4"/>
            <a:endCxn id="269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2" name=""/>
          <p:cNvCxnSpPr>
            <a:stCxn id="2689" idx="7"/>
            <a:endCxn id="269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3" name=""/>
          <p:cNvCxnSpPr>
            <a:stCxn id="2694" idx="7"/>
            <a:endCxn id="269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4" name=""/>
          <p:cNvCxnSpPr>
            <a:stCxn id="2693" idx="5"/>
            <a:endCxn id="269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5" name=""/>
          <p:cNvCxnSpPr>
            <a:stCxn id="2694" idx="5"/>
            <a:endCxn id="269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6" name=""/>
          <p:cNvCxnSpPr>
            <a:stCxn id="2691" idx="7"/>
            <a:endCxn id="269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07" name=""/>
          <p:cNvCxnSpPr>
            <a:stCxn id="2691" idx="5"/>
            <a:endCxn id="268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8" name=""/>
          <p:cNvCxnSpPr>
            <a:stCxn id="2695" idx="7"/>
            <a:endCxn id="268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9" name=""/>
          <p:cNvCxnSpPr>
            <a:stCxn id="2688" idx="5"/>
            <a:endCxn id="268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AC5-C852-4781-B080-40BF4C2F9AD1}" type="slidenum">
              <a:t>78</a:t>
            </a:fld>
          </a:p>
        </p:txBody>
      </p:sp>
    </p:spTree>
  </p:cSld>
  <p:transition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34" name=""/>
          <p:cNvCxnSpPr>
            <a:stCxn id="2728" idx="6"/>
            <a:endCxn id="273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35" name=""/>
          <p:cNvCxnSpPr>
            <a:stCxn id="2731" idx="6"/>
            <a:endCxn id="272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6" name=""/>
          <p:cNvCxnSpPr>
            <a:stCxn id="2727" idx="6"/>
            <a:endCxn id="273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7" name=""/>
          <p:cNvCxnSpPr>
            <a:stCxn id="2730" idx="6"/>
            <a:endCxn id="273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8" name=""/>
          <p:cNvCxnSpPr>
            <a:stCxn id="2728" idx="4"/>
            <a:endCxn id="272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9" name=""/>
          <p:cNvCxnSpPr>
            <a:stCxn id="2726" idx="4"/>
            <a:endCxn id="273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0" name=""/>
          <p:cNvCxnSpPr>
            <a:stCxn id="2727" idx="7"/>
            <a:endCxn id="273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1" name=""/>
          <p:cNvCxnSpPr>
            <a:stCxn id="2732" idx="7"/>
            <a:endCxn id="273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2" name=""/>
          <p:cNvCxnSpPr>
            <a:stCxn id="2731" idx="5"/>
            <a:endCxn id="273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3" name=""/>
          <p:cNvCxnSpPr>
            <a:stCxn id="2732" idx="5"/>
            <a:endCxn id="273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4" name=""/>
          <p:cNvCxnSpPr>
            <a:stCxn id="2729" idx="7"/>
            <a:endCxn id="272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45" name=""/>
          <p:cNvCxnSpPr>
            <a:stCxn id="2729" idx="5"/>
            <a:endCxn id="272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6" name=""/>
          <p:cNvCxnSpPr>
            <a:stCxn id="2733" idx="7"/>
            <a:endCxn id="272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7" name=""/>
          <p:cNvCxnSpPr>
            <a:stCxn id="2726" idx="5"/>
            <a:endCxn id="272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4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4E8-E6DC-403B-822A-B30BF01A3446}" type="slidenum">
              <a:t>79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5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657320" y="1599840"/>
            <a:ext cx="4257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332240" cy="41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627-D99B-42D0-9FD6-E4003DEADD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72" name=""/>
          <p:cNvCxnSpPr>
            <a:stCxn id="2766" idx="6"/>
            <a:endCxn id="276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73" name=""/>
          <p:cNvCxnSpPr>
            <a:stCxn id="2769" idx="6"/>
            <a:endCxn id="276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4" name=""/>
          <p:cNvCxnSpPr>
            <a:stCxn id="2765" idx="6"/>
            <a:endCxn id="276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5" name=""/>
          <p:cNvCxnSpPr>
            <a:stCxn id="2768" idx="6"/>
            <a:endCxn id="277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6" name=""/>
          <p:cNvCxnSpPr>
            <a:stCxn id="2766" idx="4"/>
            <a:endCxn id="276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7" name=""/>
          <p:cNvCxnSpPr>
            <a:stCxn id="2764" idx="4"/>
            <a:endCxn id="277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8" name=""/>
          <p:cNvCxnSpPr>
            <a:stCxn id="2765" idx="7"/>
            <a:endCxn id="277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9" name=""/>
          <p:cNvCxnSpPr>
            <a:stCxn id="2770" idx="7"/>
            <a:endCxn id="276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80" name=""/>
          <p:cNvCxnSpPr>
            <a:stCxn id="2769" idx="5"/>
            <a:endCxn id="277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1" name=""/>
          <p:cNvCxnSpPr>
            <a:stCxn id="2770" idx="5"/>
            <a:endCxn id="276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2" name=""/>
          <p:cNvCxnSpPr>
            <a:stCxn id="2767" idx="7"/>
            <a:endCxn id="276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83" name=""/>
          <p:cNvCxnSpPr>
            <a:stCxn id="2767" idx="5"/>
            <a:endCxn id="276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4" name=""/>
          <p:cNvCxnSpPr>
            <a:stCxn id="2771" idx="7"/>
            <a:endCxn id="276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5" name=""/>
          <p:cNvCxnSpPr>
            <a:stCxn id="2764" idx="5"/>
            <a:endCxn id="276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8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B54-1A1E-4300-9D41-F9A5F0843B50}" type="slidenum">
              <a:t>80</a:t>
            </a:fld>
          </a:p>
        </p:txBody>
      </p:sp>
    </p:spTree>
  </p:cSld>
  <p:transition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10" name=""/>
          <p:cNvCxnSpPr>
            <a:stCxn id="2804" idx="6"/>
            <a:endCxn id="280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1" name=""/>
          <p:cNvCxnSpPr>
            <a:stCxn id="2807" idx="6"/>
            <a:endCxn id="280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2" name=""/>
          <p:cNvCxnSpPr>
            <a:stCxn id="2803" idx="6"/>
            <a:endCxn id="280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3" name=""/>
          <p:cNvCxnSpPr>
            <a:stCxn id="2806" idx="6"/>
            <a:endCxn id="280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4" name=""/>
          <p:cNvCxnSpPr>
            <a:stCxn id="2804" idx="4"/>
            <a:endCxn id="280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5" name=""/>
          <p:cNvCxnSpPr>
            <a:stCxn id="2802" idx="4"/>
            <a:endCxn id="280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6" name=""/>
          <p:cNvCxnSpPr>
            <a:stCxn id="2803" idx="7"/>
            <a:endCxn id="280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7" name=""/>
          <p:cNvCxnSpPr>
            <a:stCxn id="2808" idx="7"/>
            <a:endCxn id="280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8" name=""/>
          <p:cNvCxnSpPr>
            <a:stCxn id="2807" idx="5"/>
            <a:endCxn id="280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9" name=""/>
          <p:cNvCxnSpPr>
            <a:stCxn id="2808" idx="5"/>
            <a:endCxn id="280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0" name=""/>
          <p:cNvCxnSpPr>
            <a:stCxn id="2805" idx="7"/>
            <a:endCxn id="280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21" name=""/>
          <p:cNvCxnSpPr>
            <a:stCxn id="2805" idx="5"/>
            <a:endCxn id="280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2" name=""/>
          <p:cNvCxnSpPr>
            <a:stCxn id="2809" idx="7"/>
            <a:endCxn id="280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3" name=""/>
          <p:cNvCxnSpPr>
            <a:stCxn id="2802" idx="5"/>
            <a:endCxn id="280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2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6B6-ABDC-4168-9DD9-9259E2D0C8E2}" type="slidenum">
              <a:t>81</a:t>
            </a:fld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48" name=""/>
          <p:cNvCxnSpPr>
            <a:stCxn id="2842" idx="6"/>
            <a:endCxn id="284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49" name=""/>
          <p:cNvCxnSpPr>
            <a:stCxn id="2845" idx="6"/>
            <a:endCxn id="284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0" name=""/>
          <p:cNvCxnSpPr>
            <a:stCxn id="2841" idx="6"/>
            <a:endCxn id="284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1" name=""/>
          <p:cNvCxnSpPr>
            <a:stCxn id="2844" idx="6"/>
            <a:endCxn id="284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2" name=""/>
          <p:cNvCxnSpPr>
            <a:stCxn id="2842" idx="4"/>
            <a:endCxn id="284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3" name=""/>
          <p:cNvCxnSpPr>
            <a:stCxn id="2840" idx="4"/>
            <a:endCxn id="284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4" name=""/>
          <p:cNvCxnSpPr>
            <a:stCxn id="2841" idx="7"/>
            <a:endCxn id="284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5" name=""/>
          <p:cNvCxnSpPr>
            <a:stCxn id="2846" idx="7"/>
            <a:endCxn id="284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6" name=""/>
          <p:cNvCxnSpPr>
            <a:stCxn id="2845" idx="5"/>
            <a:endCxn id="284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7" name=""/>
          <p:cNvCxnSpPr>
            <a:stCxn id="2846" idx="5"/>
            <a:endCxn id="284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8" name=""/>
          <p:cNvCxnSpPr>
            <a:stCxn id="2843" idx="7"/>
            <a:endCxn id="284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9" name=""/>
          <p:cNvCxnSpPr>
            <a:stCxn id="2843" idx="5"/>
            <a:endCxn id="284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0" name=""/>
          <p:cNvCxnSpPr>
            <a:stCxn id="2847" idx="7"/>
            <a:endCxn id="283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1" name=""/>
          <p:cNvCxnSpPr>
            <a:stCxn id="2840" idx="5"/>
            <a:endCxn id="283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6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310-197B-4908-A91D-424141A79427}" type="slidenum">
              <a:t>82</a:t>
            </a:fld>
          </a:p>
        </p:txBody>
      </p:sp>
    </p:spTree>
  </p:cSld>
  <p:transition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86" name=""/>
          <p:cNvCxnSpPr>
            <a:stCxn id="2880" idx="6"/>
            <a:endCxn id="288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87" name=""/>
          <p:cNvCxnSpPr>
            <a:stCxn id="2883" idx="6"/>
            <a:endCxn id="287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8" name=""/>
          <p:cNvCxnSpPr>
            <a:stCxn id="2879" idx="6"/>
            <a:endCxn id="288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89" name=""/>
          <p:cNvCxnSpPr>
            <a:stCxn id="2882" idx="6"/>
            <a:endCxn id="288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0" name=""/>
          <p:cNvCxnSpPr>
            <a:stCxn id="2880" idx="4"/>
            <a:endCxn id="287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1" name=""/>
          <p:cNvCxnSpPr>
            <a:stCxn id="2878" idx="4"/>
            <a:endCxn id="288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2" name=""/>
          <p:cNvCxnSpPr>
            <a:stCxn id="2879" idx="7"/>
            <a:endCxn id="288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3" name=""/>
          <p:cNvCxnSpPr>
            <a:stCxn id="2884" idx="7"/>
            <a:endCxn id="288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4" name=""/>
          <p:cNvCxnSpPr>
            <a:stCxn id="2883" idx="5"/>
            <a:endCxn id="288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5" name=""/>
          <p:cNvCxnSpPr>
            <a:stCxn id="2884" idx="5"/>
            <a:endCxn id="288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6" name=""/>
          <p:cNvCxnSpPr>
            <a:stCxn id="2881" idx="7"/>
            <a:endCxn id="288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7" name=""/>
          <p:cNvCxnSpPr>
            <a:stCxn id="2881" idx="5"/>
            <a:endCxn id="287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8" name=""/>
          <p:cNvCxnSpPr>
            <a:stCxn id="2885" idx="7"/>
            <a:endCxn id="287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9" name=""/>
          <p:cNvCxnSpPr>
            <a:stCxn id="2878" idx="5"/>
            <a:endCxn id="287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8CE-CB62-4CDA-8270-A298E297489B}" type="slidenum">
              <a:t>83</a:t>
            </a:fld>
          </a:p>
        </p:txBody>
      </p:sp>
    </p:spTree>
  </p:cSld>
  <p:transition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4" name=""/>
          <p:cNvCxnSpPr>
            <a:stCxn id="2918" idx="6"/>
            <a:endCxn id="292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5" name=""/>
          <p:cNvCxnSpPr>
            <a:stCxn id="2921" idx="6"/>
            <a:endCxn id="291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6" name=""/>
          <p:cNvCxnSpPr>
            <a:stCxn id="2917" idx="6"/>
            <a:endCxn id="292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7" name=""/>
          <p:cNvCxnSpPr>
            <a:stCxn id="2920" idx="6"/>
            <a:endCxn id="292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8" name=""/>
          <p:cNvCxnSpPr>
            <a:stCxn id="2918" idx="4"/>
            <a:endCxn id="291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9" name=""/>
          <p:cNvCxnSpPr>
            <a:stCxn id="2916" idx="4"/>
            <a:endCxn id="292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0" name=""/>
          <p:cNvCxnSpPr>
            <a:stCxn id="2917" idx="7"/>
            <a:endCxn id="292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1" name=""/>
          <p:cNvCxnSpPr>
            <a:stCxn id="2922" idx="7"/>
            <a:endCxn id="292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2" name=""/>
          <p:cNvCxnSpPr>
            <a:stCxn id="2921" idx="5"/>
            <a:endCxn id="292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3" name=""/>
          <p:cNvCxnSpPr>
            <a:stCxn id="2922" idx="5"/>
            <a:endCxn id="292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4" name=""/>
          <p:cNvCxnSpPr>
            <a:stCxn id="2919" idx="7"/>
            <a:endCxn id="291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5" name=""/>
          <p:cNvCxnSpPr>
            <a:stCxn id="2919" idx="5"/>
            <a:endCxn id="291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6" name=""/>
          <p:cNvCxnSpPr>
            <a:stCxn id="2923" idx="7"/>
            <a:endCxn id="291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7" name=""/>
          <p:cNvCxnSpPr>
            <a:stCxn id="2916" idx="5"/>
            <a:endCxn id="291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4D5-C640-4886-8E16-24F647219EAB}" type="slidenum">
              <a:t>84</a:t>
            </a:fld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2" name=""/>
          <p:cNvCxnSpPr>
            <a:stCxn id="2956" idx="6"/>
            <a:endCxn id="295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3" name=""/>
          <p:cNvCxnSpPr>
            <a:stCxn id="2959" idx="6"/>
            <a:endCxn id="295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4" name=""/>
          <p:cNvCxnSpPr>
            <a:stCxn id="2955" idx="6"/>
            <a:endCxn id="295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5" name=""/>
          <p:cNvCxnSpPr>
            <a:stCxn id="2958" idx="6"/>
            <a:endCxn id="296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6" name=""/>
          <p:cNvCxnSpPr>
            <a:stCxn id="2956" idx="4"/>
            <a:endCxn id="295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7" name=""/>
          <p:cNvCxnSpPr>
            <a:stCxn id="2954" idx="4"/>
            <a:endCxn id="296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8" name=""/>
          <p:cNvCxnSpPr>
            <a:stCxn id="2955" idx="7"/>
            <a:endCxn id="296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9" name=""/>
          <p:cNvCxnSpPr>
            <a:stCxn id="2960" idx="7"/>
            <a:endCxn id="295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0" name=""/>
          <p:cNvCxnSpPr>
            <a:stCxn id="2959" idx="5"/>
            <a:endCxn id="296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1" name=""/>
          <p:cNvCxnSpPr>
            <a:stCxn id="2960" idx="5"/>
            <a:endCxn id="295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2" name=""/>
          <p:cNvCxnSpPr>
            <a:stCxn id="2957" idx="7"/>
            <a:endCxn id="295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3" name=""/>
          <p:cNvCxnSpPr>
            <a:stCxn id="2957" idx="5"/>
            <a:endCxn id="295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4" name=""/>
          <p:cNvCxnSpPr>
            <a:stCxn id="2961" idx="7"/>
            <a:endCxn id="295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5" name=""/>
          <p:cNvCxnSpPr>
            <a:stCxn id="2954" idx="5"/>
            <a:endCxn id="295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97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05E-F1F3-499A-B4CE-E81F036B1C31}" type="slidenum">
              <a:t>85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eadth first travers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200E-A2EA-481B-8BD3-9175E0C5A4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3:14:38Z</dcterms:created>
  <dc:creator>柯皓仁</dc:creator>
  <dc:description/>
  <dc:language>en-US</dc:language>
  <cp:lastModifiedBy>administrator</cp:lastModifiedBy>
  <cp:lastPrinted>2001-03-06T22:50:36Z</cp:lastPrinted>
  <dcterms:modified xsi:type="dcterms:W3CDTF">2004-05-05T11:58:08Z</dcterms:modified>
  <cp:revision>78</cp:revision>
  <dc:subject/>
  <dc:title>Chapter 22 Elementary Graph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and time">
    <vt:lpwstr>sadf</vt:lpwstr>
  </property>
</Properties>
</file>